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0.jpeg" ContentType="image/jpeg"/>
  <Override PartName="/ppt/media/image11.gif" ContentType="image/gif"/>
  <Override PartName="/ppt/media/image13.gif" ContentType="image/gif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2A748-9147-4788-ADE2-81BF0897D42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0F6C3D-6B4D-4889-8EDA-CB1FC8C3C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38B6F49-5296-4346-A199-C959FFBE0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798E699-BDE1-467E-8EE7-2C0E1A5D9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9472966-F718-40F5-BC85-5A79E9536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C81BBAF-EDF3-4949-A430-862C76F36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655066B-D351-45B8-A2B0-6A3267A08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B92252C-A0D0-4443-B86A-01A05D5C3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B2D0ED0-00C3-46BE-91BA-DDBFC268E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D78F2EB-2CB6-4E43-AC9F-99AAED98A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C868CB0-AEFE-4A78-8202-5A5AD6D3BAC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A3967F-F3C9-453A-8F4A-EC4645ED5C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3B277-11EF-499A-950E-FC3A10D72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9B94EA-D483-47FE-AD0F-643306782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5370AB-8591-422D-AB8E-73508987D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4A484A-B62E-416E-AAD0-32F67A8FD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057B52-D53E-4091-841C-B65CEFC55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4E7CD0-69D4-4CFD-AA3D-535EF910D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A11BAF-EA2E-4EC1-8BC2-C15F88A3C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1AE651-F9A4-49A0-B3DD-7200788CD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26E89A-4DB9-4312-98DE-FF4285D17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3DE77D-E14F-43A1-8947-052749D80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24BDCF-AC57-49D0-8C7E-FE5CC9DE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137832-3F74-42E0-B24A-BB560C613D6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0567E7-81CC-4101-BDE7-F9E29E1DF3A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FD08EA8-E7A4-4ABE-ABE6-5D348486E63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7DEFD09-EA2D-4F95-BAA9-10EDF1E1E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7E98BE-83AA-4306-AD4A-ECAE62358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DA95E3F-A88C-4EE4-A871-4A2395D6B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726098F-CB4D-42D0-910A-65036E320C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50ECC91-13AC-45D6-824A-0060C9353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8718A3-2E3F-4565-B4FA-33E14556D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3657AFA-9001-4599-8164-82053D9BE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478C716-E356-46DD-A52D-E0D38EE19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9B28E9-9312-4106-B428-0723DCDA9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2840D9B-CCA5-40EF-B608-C6526022D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3553494-A6D6-43E5-B1B1-F8D11FB03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9C2208D-CEED-4018-8EC6-3149EC2915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B5109D7-9A5A-4E62-B8CA-D3F0A14D7AB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3841155-3D0C-4B2E-8867-D39A58752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C82C9B0-80BB-4E86-82E7-8281729EC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F5FC37-6CEE-4522-9694-E36E8221B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2758DEA-4AD2-4D10-BDCE-CAB5CD5E2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75E14F4-37AE-4DBF-9AED-75CC534B6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5768A9-94A1-4FB1-ACB0-92ED6F0CD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67CF7C-10F5-4E35-9C31-8F6BC075A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A1F9AA3-BC5E-4F49-8E7B-2B9C9B07A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9C40A09-339F-40D7-A9B3-79F653608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57FD96D-5570-441F-800E-AB2EC984E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D464DF-4065-4C37-BD04-DA82AFCAA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D09006-FD59-4C34-B294-D3BFCC494F7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FD8577-F7A9-4045-AF36-6B7DF09B3AC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A171F2-EB39-44C8-BCF3-C67FEF06F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F6A7A0-E3E9-4517-94B3-23B825B0F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3E5444-385A-49D4-9AD0-69C5D062D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DE916D-B525-413F-9385-C7ADADA5D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BB6C70-2602-4A05-841D-B80849DDB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9CE3E1-0D11-49CE-ABF3-1C0BBAD2B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A697CA-3692-415A-A167-8C5F5DBFD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8F47BD-73FC-4DAC-B367-493CBA14D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79876D-2DE4-4918-A50B-E760CF17A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07AC5C-2B92-4D71-9D7A-18750C9FC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9C3560-26C3-456C-8F62-CA8E84F1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00160A-253A-42A1-8E9B-2EF68BEAA18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E10CC9-2E51-48D6-812D-4F30B2BEB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4B6E15-9F55-4A9C-BB49-0828D869E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B3DDCF-9B29-4A77-BAA6-E9B4C4D7C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0EE9EC-8403-4898-B2B7-955001B6A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FB2F86-0FAE-42A1-8203-9BD3BB598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93BB51-F96D-411D-93FB-52D5608EC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0BC714-6DFC-4F3B-AE0B-D0471FF8A0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40AF5D-3A15-4B0B-BC47-8E8F1029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E91144-AE6E-48CB-B461-A3E28BD34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525D4D-92A4-4FC5-B2A0-D6189BEB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4643C8-60B8-4A5F-AC1A-7A9C4B525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75FDA9-2A3F-4C81-8BBD-7AF4F8F2D0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43E014-A31C-47FC-9F0F-61BA52913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239BD0-DAA7-4736-A77E-8C8BE3536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1C2FC9-632C-4A86-81C0-F6B2E59EB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C29B34-FDF0-4B8F-86B3-04B3AFF2E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9BCFAD-7273-4CBA-9A9C-E90993E6F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697998-13B7-4911-AE1A-5E9FB9637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C63D69-A178-4870-84B2-6BBEA71E7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F8BB00-57C6-43EE-A4E2-DCAE1136A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68D11C-8254-499B-8E36-83DB7B8EE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4404EA-C0D8-4250-A90D-8F7FE9400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A5FEF8-271A-495F-A19F-84B1484A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F7AC0B-A472-4871-BC71-126B983CF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DCC474-8202-4DEE-9B50-D45ABB1B8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BE6ECB-6550-4C1E-8C0C-A69D0EEAD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C55AD7-933B-43E3-9F8A-1DDCCE851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C96C38-2DD9-4109-AA28-A354BDDB8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29CB8C-733C-44BD-BBE7-88F8FB36F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C61B45-EA08-4518-BDFE-A7291A6D3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E5D4A2-2343-4D68-8502-354BD71CE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D11365-6C75-4379-9832-2576B1E1F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2AA7EC-8F9E-4DD0-915F-8F3F01EA1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6A21BF-1B1E-457C-A1E1-D6E80D234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38324E-7507-459E-B483-DB33B36AE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9147075-23BD-4FE9-9D8D-4CC076D64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FAA30C-A9B6-4CE9-82E6-2BEABAF1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9848D6-C959-485F-A879-83A69DB24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072D7A-AB99-4CA3-A485-7D38A8FD6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6DB74C-73E3-4905-B0B8-C7378776D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C62B74-C8DE-465C-99B6-1366CF2741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C7A23FD-5E58-4FEF-BB28-BF3B179C3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A46200-CC8D-461F-B297-E4394BB1C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BC2531-E404-4A8D-84AF-7D375540A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66EF79-071C-478C-9A66-107D5D220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E0AAB4-8FD3-4C80-ACD3-D6A33299B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ABEF3C-71D9-496D-912A-5181627CB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E6D601-8D7A-4C64-A10E-39B6C7624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126752-D743-441F-99C4-17B4E392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607EEE-BF12-4079-A23F-39FA3664B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0FB548-CA4E-40F5-89BF-3379E6CB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FF72F8-A3D4-46C4-B7D1-99B3EA543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8BC001-C496-4B02-BA1D-FA18A9C2C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444034-4577-4FAF-B986-3D9DB7946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53CD94-CB3E-40EE-B05F-9216EBBBC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203335-598E-4958-B011-5BE933567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679FAB-A1C1-4DF0-BEB7-9880F896D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BD02DA5-2B20-4535-A3A5-CD161C0AD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393411-EC22-448A-8062-4DCAFACFB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E0D198-D759-441A-8CF6-D671CF45B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11CC16-0123-446C-93CB-3C7B28B47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D22344-B3C5-4216-AFE1-BA9DA652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2A1383-B430-4AAE-AB4B-C82385BB2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4D3148-FFF2-4DA1-B61F-ADBAA5947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FC5FB2-F97D-483C-A974-7A51A6016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54F1BD0-8E6D-48B6-A630-82447044E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EE441A-1532-433C-B596-0224654DA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BC4EB0A-6D82-4888-A98A-EE3F642BD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CA9471-293C-40D4-9968-81C6DD03E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C58BDA-5392-4D03-99CF-88BC3344F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5AC095-D898-4A44-BAFE-A0B1B96CD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21C8E2-9599-445F-8095-5D94086F1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97B931-CCAA-4073-9BCA-009169F47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927ADE-6FA2-4979-AED7-958592E88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40A06A-F970-4529-8106-711BA2BB7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8876BD4-F917-41D5-B022-184BA8E54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786129-270A-4B83-811E-EF748572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542A26-FC0E-41A7-957D-7120FA7C1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51EFAA-3E7D-4252-A4E3-E6F9B0DB0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0391B8-CABC-44C1-A3B6-C37BE6574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D64FB9-4C28-493C-8C51-41B265A98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01877D-DDBA-4CAD-B619-982230F452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8FBD3B-202D-4546-BD44-A107BB56B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C874FC-6B04-4976-948E-F8BB31C51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B1F5E2-9930-44BA-A54E-9DFBD597F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3B79BE-0991-4F90-B1C1-548D8C52F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0EEE48B-DB09-4AAE-89FB-0D401689F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4F7459-5031-4945-B5AE-6CA762774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1FD9F7-1766-4398-89C9-1A6058B5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175F3D-278B-4D29-B1EE-3E28BD329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FF0E95-526C-430D-9082-D80B4F8A7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37791B-DBE3-4151-8F87-169D8046C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F00EB4-48C6-472F-BC86-52E998E1A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448EDE-3E00-47E2-85D1-F7EC28ECB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063490-D5AF-4DDF-8067-44DB8D485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E77F66-0301-4A8F-834E-D2DBB2088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15C557-0AC4-43F0-8A84-5B3A6035B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4FA9AB-BD54-427A-A827-C9B9A1033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E22A17-4426-4861-AA5C-DE0D04C7E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929313-143D-47CE-A10C-8FC5E2144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00B8961-1949-4E14-88F7-BF8442D3A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5B4F009-CF42-495C-9FD5-6EDF9232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2F59D8-C703-4B07-9CD9-22324F6E5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BB45B72-8963-4117-9A7A-347C58FB16D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87FC55-4E58-4496-9824-91724D105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99D4AF-9109-424B-800F-F54367C68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1D0D95F-A5DB-46A3-8837-A74036C68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AD0FA52-04F2-4684-905F-A8BED6352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B83609-FB67-49E6-BDF4-63A390A77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645636-09EC-4C9D-BA66-14C4F7AFB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AB18F9-BF07-40F1-9653-189CA9A80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373208-368C-4FCD-B190-46EAE62D4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7CD555F-AEFF-48D8-AC65-23EC3091E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B57D86E-0B55-4B66-A66F-CC31EB5D9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BC82BE-63B4-431F-AB39-CCCDDF222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B946FF-1433-465B-B3C2-D1438D49D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A236AD5-BABA-4E7B-8D76-7F8DA46C4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C3B278-A48B-4B12-B029-A5978A738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E65553-6187-431F-865D-5AA8E0BB0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8C5798-FCD8-4F76-93CD-B7E5A08F6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56E9276-7EF0-43B3-8B58-ADE48E4D1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376AE6-F55F-4D60-ABEA-544D3622F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F14E39-1A70-4CB3-9E44-D25C0EF05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339DD2-B5AC-49CB-9258-00AA9BFE5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A2748B-4341-4DD1-9065-026797A89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F09D24-C10F-4766-875E-558FEC8A1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CDA818-AC46-4821-AA8A-47938E1C8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214070-6BE8-4780-AD24-FFCA2ADC5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ABB3987-0433-49AE-9ED7-B5A781585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7539DD-F6E0-4BE6-B57A-215198FF9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E1B190-8D60-44D1-8277-8A93259A9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EBBF002-0CAD-4661-A891-3C130344F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6C3DA1-C82D-4046-ADD6-B47674A38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760248-813F-417D-9DB9-8452BB8EE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157A91-FE1F-4AFB-84EB-FBBCE27C5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0C60AFE-7205-4DDA-8173-F070D989B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7A364C-A45A-4838-BC6E-0415B8F1F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A482DC-1F3D-4150-B333-1A770E4E7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AA7B6A-5B90-48B0-9622-4FD3DA152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C9EA85-47F5-486C-8F0B-5FF43C3E1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515EB6-8A6F-4002-8B9B-2AF6861E5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AE9555-E3EB-4A64-984E-CD7465EA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563313-E65F-4F67-BAEC-22C6903DD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BBF4D5-E3D2-4EB6-8492-A1D2066C0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87767C-C32A-445C-9D14-42AA0F6AD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F8EE30-2F5D-4ECD-92B4-2D71A6EF3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19A377-AA4E-4A1B-8EBA-45DF944E8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2A0C7-3D17-4F78-BAEF-7ED5F2442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D210083-170C-4DDC-AE46-EFD09B592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64E1EC-4670-4CCC-A7C7-7651A4925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E984B24-CA70-4318-AA0B-AD9BB09C3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7BFCBA-E68B-4E62-9CEC-7FE54A796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3FC3CA-94B1-4CA5-95EB-9CC0EC7D2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C6ACCA4-FC96-4609-8663-B5B55D546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45F485-F1DC-4230-AEFD-3293E733B5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EA4FA1-0823-409F-81E2-F41BF87EEDE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252B34-5638-4517-B038-FE52618AB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60596-D12E-4746-AEE2-699DFFEDB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4F198-BF90-4162-AF78-648D6CCB8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6062E9-1C76-4B4C-9568-7CDB7522B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EB0B36-68F1-45DA-82AC-F6157B611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3AFFB5-9167-4805-9821-9E5FF0EB1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2B2027-90F1-4CA0-A318-E9006A652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66CA0-22A7-4C87-8020-000C19BF6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0F00F-B84C-4721-A27F-298DAFCA2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9473B-27F8-487C-969D-86780F82C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DE37C1-2E3A-4DA8-A3CA-54DAFFD64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BE6A3-F95B-49AC-8E4D-F76FA20844D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51A9308-5A8C-4595-9716-48632D8D403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871C7-60DD-483D-9F3F-2EB1685950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CA006C0-3747-45D1-8582-D87C15E43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3BBD2C-9748-4F9E-A8D1-E18E087D6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689AF29-4269-4F87-B192-4B2C450E9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524B4B4-D8E9-477D-B242-DA1E5AE27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8B7E47-3CA0-4CF2-9C37-F2C19E5FB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C04D8D-D8E3-4781-8276-C5175B506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7C2369-6BB4-4EA5-B214-8BC38E3C6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AA6C63-9626-4104-ACFB-341510326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9ACA14F-00CA-4895-93E4-05B38C2E8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43DE44A-BA36-4B56-82A9-B0582761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4D1A5-9E64-466E-BD4F-EFC0B3F25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8058957-CD7D-4364-B454-2CF1665DD3D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D4CD20-712B-4394-BE36-29A594F65B7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9BFEE9E-7E3F-472D-A9A1-852625E37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006CCC-3402-4F8C-85EB-B12D9425B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2982C3F-9AFF-40AE-AEC1-357F8CFF1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6169E1-0897-409B-BC13-E81687A0E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E1EEFA-C704-453A-A5F5-73C2CCC0C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8729406-60D7-4441-A47E-55EB78EDD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E68DEF-8FDD-4CFF-8318-5148875E6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F54D682-A229-44BD-B19A-E4B5758B5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A97D9-B7DA-4939-B10F-4FA2F9FD4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91B9CAC-4FD1-49B1-9D17-64B645C5D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762050-0CAE-41F2-B0F9-D8B6F2E9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FEC395-EDDC-4345-8E99-E77E231023B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95626F-C133-4AE8-9F11-4473B60E68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89B910-03A8-4D5D-8CD2-4081AA8F7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C8982-6CCA-4701-BC96-3801D9A4B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8C234E-D177-4630-A3A7-79121D54A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A7E4B-BA47-4A03-BBEA-CCAFA0759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089A5D-9F28-466C-8ECF-17101E92D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EF818B-3191-4125-9E04-80DA02B7E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BB8CB9-6991-4A11-B340-D9CDBB2F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C93A9-257E-4723-8859-BDEB946D3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5FE99C-D971-49BB-ABD3-83B1AF931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53E106-3C00-4748-8D3D-733B97823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95CE9-12C3-4FE7-92EC-26541536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C243A3-4321-493D-ABCE-67C1608DCCD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62148C-9256-4976-B078-99FEF8F8D1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A61F538-FEB0-4A5C-8FA2-56FD54AC8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365508-B17D-47CA-809D-073F56C10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F5F5A3-E4C6-4515-99F6-60121FF86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C6D141-5DA9-4146-A4E7-1030CB297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443D9-5D44-47E2-80D0-6DB6DA63D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C12E15-F59A-4D76-97EB-A0A9F2CEA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1280E8-532A-43F7-A824-AF070180D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5B7A909-E572-44D7-BF08-6D8AAA650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0D2EDE-D75D-490E-A2A3-DB5175FA5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DC5F55F-E564-46A5-AE82-5906DC39B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575F8D-E4A5-4BE9-8D5E-E687A1E62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97A130C-E31D-44E9-8ADA-C8405AD91E9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D0C3A00-81F1-4CF4-9C1A-446E9F6432E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815AD6C-C183-41FC-BCA9-C66D5595A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FFF6BA8-B5BD-4F24-A928-103555857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6AB6F-42E4-428F-8B4A-28BCED8C1E3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36094-AB89-4C4D-BB80-A9C6DAFE5F3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CDF83-9E55-43B7-8EC1-A58AAE5AF41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B092C-1D81-4629-BA2D-593A8C055F6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9E4A4-02E7-42C9-8C23-5D0372EA830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34970-6A07-411C-8107-AB68CD0A071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72301-3912-420D-B6C7-EEDAC6DDA43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1C6B6-95A3-4113-8FE9-61015742858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5ADDC-6F19-4F1D-8491-AB24FB546AE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AFAC7-3F03-49C9-BFC1-F31755C9FDF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4A5AD-1E7F-4A27-8F95-F9E0F2BDE05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00456-8151-4378-9C82-6B4113A2F34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D5A6E-41B5-4F4F-90F4-1A8411D32965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52992-F246-4ED3-9003-B99297C5E672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C4C9E-C179-4591-967C-0BD9A1B6F51A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B5C28-DDBD-4CDE-8E91-62206770B3FC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C46DC-DC63-4A4E-9479-A48C575BB8C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E5F66-F4ED-40EE-ABB9-C7446E4CBD5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E26FC-2D09-4B65-B5AD-0618D63B45B7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53727-CE86-4375-AE2C-A01B885C3CF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CF6EA-8B37-4898-B480-9287605EB35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849A4-7542-4C39-8BB3-6359506C9C3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86D8F-C6AD-4D72-A107-00420BBB71C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DCA27-C68E-4B4A-ACE5-DA35B7E7952F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四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Oval 5"/>
          <p:cNvSpPr/>
          <p:nvPr/>
        </p:nvSpPr>
        <p:spPr>
          <a:xfrm>
            <a:off x="2022480" y="2689200"/>
            <a:ext cx="558720" cy="46368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Rectangle 6"/>
          <p:cNvSpPr/>
          <p:nvPr/>
        </p:nvSpPr>
        <p:spPr>
          <a:xfrm>
            <a:off x="352440" y="2647800"/>
            <a:ext cx="84456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商 的 变 化 规 律（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9" name=""/>
          <p:cNvGrpSpPr/>
          <p:nvPr/>
        </p:nvGrpSpPr>
        <p:grpSpPr>
          <a:xfrm>
            <a:off x="2284560" y="2448000"/>
            <a:ext cx="5621040" cy="360"/>
            <a:chOff x="2284560" y="2448000"/>
            <a:chExt cx="5621040" cy="360"/>
          </a:xfrm>
        </p:grpSpPr>
        <p:sp>
          <p:nvSpPr>
            <p:cNvPr id="990" name="Line 10"/>
            <p:cNvSpPr/>
            <p:nvPr/>
          </p:nvSpPr>
          <p:spPr>
            <a:xfrm>
              <a:off x="2284560" y="2448000"/>
              <a:ext cx="562104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>
              <a:off x="2284560" y="2448000"/>
              <a:ext cx="562104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2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11"/>
          <p:cNvSpPr/>
          <p:nvPr/>
        </p:nvSpPr>
        <p:spPr>
          <a:xfrm>
            <a:off x="2330280" y="18464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11"/>
          <p:cNvSpPr/>
          <p:nvPr/>
        </p:nvSpPr>
        <p:spPr>
          <a:xfrm>
            <a:off x="2336760" y="1879560"/>
            <a:ext cx="357120" cy="5954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Rectangle 9"/>
          <p:cNvSpPr/>
          <p:nvPr/>
        </p:nvSpPr>
        <p:spPr>
          <a:xfrm>
            <a:off x="-168120" y="1744560"/>
            <a:ext cx="7931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 </a:t>
            </a: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</a:t>
            </a:r>
            <a:r>
              <a:rPr b="1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除数是两位数的除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105AC-6EFC-4D5C-9C38-B126482B52DA}" type="datetime">
              <a:rPr b="0" lang="zh-CN" sz="1200" spc="-1" strike="noStrike">
                <a:solidFill>
                  <a:srgbClr val="898989"/>
                </a:solidFill>
                <a:latin typeface="Cambria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TextBox 2"/>
          <p:cNvSpPr/>
          <p:nvPr/>
        </p:nvSpPr>
        <p:spPr>
          <a:xfrm>
            <a:off x="728640" y="201456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口算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40÷20=            700÷70=           150÷30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70÷90=            160÷80=           1200÷300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TextBox 38"/>
          <p:cNvSpPr/>
          <p:nvPr/>
        </p:nvSpPr>
        <p:spPr>
          <a:xfrm>
            <a:off x="2338560" y="2612880"/>
            <a:ext cx="428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TextBox 39"/>
          <p:cNvSpPr/>
          <p:nvPr/>
        </p:nvSpPr>
        <p:spPr>
          <a:xfrm>
            <a:off x="2443320" y="3587760"/>
            <a:ext cx="428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TextBox 40"/>
          <p:cNvSpPr/>
          <p:nvPr/>
        </p:nvSpPr>
        <p:spPr>
          <a:xfrm>
            <a:off x="4565520" y="2575080"/>
            <a:ext cx="428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TextBox 41"/>
          <p:cNvSpPr/>
          <p:nvPr/>
        </p:nvSpPr>
        <p:spPr>
          <a:xfrm>
            <a:off x="4789440" y="3594240"/>
            <a:ext cx="428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TextBox 42"/>
          <p:cNvSpPr/>
          <p:nvPr/>
        </p:nvSpPr>
        <p:spPr>
          <a:xfrm>
            <a:off x="6894360" y="2579760"/>
            <a:ext cx="428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TextBox 43"/>
          <p:cNvSpPr/>
          <p:nvPr/>
        </p:nvSpPr>
        <p:spPr>
          <a:xfrm>
            <a:off x="7315200" y="3571920"/>
            <a:ext cx="42876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6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07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8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09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10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1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12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3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4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5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16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17" name="TextBox 1"/>
          <p:cNvSpPr/>
          <p:nvPr/>
        </p:nvSpPr>
        <p:spPr>
          <a:xfrm>
            <a:off x="501480" y="1206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一、引入新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19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20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021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2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3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2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2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29" name="TextBox 1"/>
          <p:cNvSpPr/>
          <p:nvPr/>
        </p:nvSpPr>
        <p:spPr>
          <a:xfrm>
            <a:off x="430200" y="1159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Arial"/>
                <a:ea typeface="宋体"/>
              </a:rPr>
              <a:t>二、自主探究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TextBox 2"/>
          <p:cNvSpPr/>
          <p:nvPr/>
        </p:nvSpPr>
        <p:spPr>
          <a:xfrm>
            <a:off x="444600" y="10000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80÷30=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TextBox 31"/>
          <p:cNvSpPr/>
          <p:nvPr/>
        </p:nvSpPr>
        <p:spPr>
          <a:xfrm>
            <a:off x="785880" y="43718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这两种方法对吗？哪种方法简便一些？为什么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TextBox 32"/>
          <p:cNvSpPr/>
          <p:nvPr/>
        </p:nvSpPr>
        <p:spPr>
          <a:xfrm>
            <a:off x="3227400" y="1000080"/>
            <a:ext cx="5713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26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TextBox 35"/>
          <p:cNvSpPr/>
          <p:nvPr/>
        </p:nvSpPr>
        <p:spPr>
          <a:xfrm>
            <a:off x="785880" y="51436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小结：</a:t>
            </a:r>
            <a:r>
              <a:rPr b="0" lang="zh-CN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笔算时，当被除数和除数末尾都有</a:t>
            </a:r>
            <a:r>
              <a:rPr b="0" lang="en-US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0</a:t>
            </a:r>
            <a:r>
              <a:rPr b="0" lang="zh-CN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，我们可以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      </a:t>
            </a:r>
            <a:r>
              <a:rPr b="0" lang="zh-CN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运用商不变的规律使计算简便得多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4" name="组合 3"/>
          <p:cNvGrpSpPr/>
          <p:nvPr/>
        </p:nvGrpSpPr>
        <p:grpSpPr>
          <a:xfrm>
            <a:off x="2643120" y="1857240"/>
            <a:ext cx="1668600" cy="1962720"/>
            <a:chOff x="2643120" y="1857240"/>
            <a:chExt cx="1668600" cy="1962720"/>
          </a:xfrm>
        </p:grpSpPr>
        <p:sp>
          <p:nvSpPr>
            <p:cNvPr id="1035" name="TextBox 4"/>
            <p:cNvSpPr/>
            <p:nvPr/>
          </p:nvSpPr>
          <p:spPr>
            <a:xfrm>
              <a:off x="2643120" y="1857240"/>
              <a:ext cx="9140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2  6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3 0  7  8  0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6  0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1  8  0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1  8  0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               </a:t>
              </a: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36" name="组合 27"/>
            <p:cNvGrpSpPr/>
            <p:nvPr/>
          </p:nvGrpSpPr>
          <p:grpSpPr>
            <a:xfrm>
              <a:off x="2771640" y="2209680"/>
              <a:ext cx="1540080" cy="1610280"/>
              <a:chOff x="2771640" y="2209680"/>
              <a:chExt cx="1540080" cy="1610280"/>
            </a:xfrm>
          </p:grpSpPr>
          <p:sp>
            <p:nvSpPr>
              <p:cNvPr id="1037" name="弧形 6"/>
              <p:cNvSpPr/>
              <p:nvPr/>
            </p:nvSpPr>
            <p:spPr>
              <a:xfrm rot="1018800">
                <a:off x="2895840" y="2237400"/>
                <a:ext cx="325080" cy="900720"/>
              </a:xfrm>
              <a:custGeom>
                <a:avLst/>
                <a:gdLst/>
                <a:ahLst/>
                <a:rect l="l" t="t" r="r" b="b"/>
                <a:pathLst>
                  <a:path stroke="0" w="325123" h="900885">
                    <a:moveTo>
                      <a:pt x="162561" y="0"/>
                    </a:moveTo>
                    <a:cubicBezTo>
                      <a:pt x="252341" y="0"/>
                      <a:pt x="325122" y="201670"/>
                      <a:pt x="325122" y="450442"/>
                    </a:cubicBezTo>
                    <a:lnTo>
                      <a:pt x="162561" y="450442"/>
                    </a:lnTo>
                    <a:close/>
                  </a:path>
                  <a:path fill="none" w="325123" h="900885">
                    <a:moveTo>
                      <a:pt x="162561" y="0"/>
                    </a:moveTo>
                    <a:cubicBezTo>
                      <a:pt x="252341" y="0"/>
                      <a:pt x="325122" y="201670"/>
                      <a:pt x="325122" y="450442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38" name=""/>
              <p:cNvGrpSpPr/>
              <p:nvPr/>
            </p:nvGrpSpPr>
            <p:grpSpPr>
              <a:xfrm>
                <a:off x="3225240" y="3057120"/>
                <a:ext cx="1071360" cy="360"/>
                <a:chOff x="3225240" y="3057120"/>
                <a:chExt cx="1071360" cy="360"/>
              </a:xfrm>
            </p:grpSpPr>
            <p:sp>
              <p:nvSpPr>
                <p:cNvPr id="1039" name="直接连接符 7"/>
                <p:cNvSpPr/>
                <p:nvPr/>
              </p:nvSpPr>
              <p:spPr>
                <a:xfrm>
                  <a:off x="3225240" y="3057120"/>
                  <a:ext cx="1071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0" name=""/>
                <p:cNvSpPr txBox="1"/>
                <p:nvPr/>
              </p:nvSpPr>
              <p:spPr>
                <a:xfrm>
                  <a:off x="3225240" y="3057120"/>
                  <a:ext cx="1071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1" name=""/>
              <p:cNvGrpSpPr/>
              <p:nvPr/>
            </p:nvGrpSpPr>
            <p:grpSpPr>
              <a:xfrm>
                <a:off x="3202920" y="2263680"/>
                <a:ext cx="1071360" cy="360"/>
                <a:chOff x="3202920" y="2263680"/>
                <a:chExt cx="1071360" cy="360"/>
              </a:xfrm>
            </p:grpSpPr>
            <p:sp>
              <p:nvSpPr>
                <p:cNvPr id="1042" name="直接连接符 8"/>
                <p:cNvSpPr/>
                <p:nvPr/>
              </p:nvSpPr>
              <p:spPr>
                <a:xfrm>
                  <a:off x="3202920" y="2263680"/>
                  <a:ext cx="1071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3" name=""/>
                <p:cNvSpPr txBox="1"/>
                <p:nvPr/>
              </p:nvSpPr>
              <p:spPr>
                <a:xfrm>
                  <a:off x="3202920" y="2263680"/>
                  <a:ext cx="1071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4" name=""/>
              <p:cNvGrpSpPr/>
              <p:nvPr/>
            </p:nvGrpSpPr>
            <p:grpSpPr>
              <a:xfrm>
                <a:off x="3240360" y="3819600"/>
                <a:ext cx="1071360" cy="360"/>
                <a:chOff x="3240360" y="3819600"/>
                <a:chExt cx="1071360" cy="360"/>
              </a:xfrm>
            </p:grpSpPr>
            <p:sp>
              <p:nvSpPr>
                <p:cNvPr id="1045" name="直接连接符 9"/>
                <p:cNvSpPr/>
                <p:nvPr/>
              </p:nvSpPr>
              <p:spPr>
                <a:xfrm>
                  <a:off x="3240360" y="3819600"/>
                  <a:ext cx="1071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6" name=""/>
                <p:cNvSpPr txBox="1"/>
                <p:nvPr/>
              </p:nvSpPr>
              <p:spPr>
                <a:xfrm>
                  <a:off x="3240360" y="3819600"/>
                  <a:ext cx="1071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47" name="组合 11"/>
          <p:cNvGrpSpPr/>
          <p:nvPr/>
        </p:nvGrpSpPr>
        <p:grpSpPr>
          <a:xfrm>
            <a:off x="4546440" y="1857240"/>
            <a:ext cx="1668600" cy="1962720"/>
            <a:chOff x="4546440" y="1857240"/>
            <a:chExt cx="1668600" cy="1962720"/>
          </a:xfrm>
        </p:grpSpPr>
        <p:sp>
          <p:nvSpPr>
            <p:cNvPr id="1048" name="TextBox 12"/>
            <p:cNvSpPr/>
            <p:nvPr/>
          </p:nvSpPr>
          <p:spPr>
            <a:xfrm>
              <a:off x="4546440" y="1857240"/>
              <a:ext cx="91404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2  6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3 0  7  8  0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1  8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1  8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9" name="组合 27"/>
            <p:cNvGrpSpPr/>
            <p:nvPr/>
          </p:nvGrpSpPr>
          <p:grpSpPr>
            <a:xfrm>
              <a:off x="4674960" y="2209680"/>
              <a:ext cx="1540080" cy="1610280"/>
              <a:chOff x="4674960" y="2209680"/>
              <a:chExt cx="1540080" cy="1610280"/>
            </a:xfrm>
          </p:grpSpPr>
          <p:sp>
            <p:nvSpPr>
              <p:cNvPr id="1050" name="弧形 14"/>
              <p:cNvSpPr/>
              <p:nvPr/>
            </p:nvSpPr>
            <p:spPr>
              <a:xfrm rot="1018800">
                <a:off x="4799160" y="2237400"/>
                <a:ext cx="325080" cy="900720"/>
              </a:xfrm>
              <a:custGeom>
                <a:avLst/>
                <a:gdLst/>
                <a:ahLst/>
                <a:rect l="l" t="t" r="r" b="b"/>
                <a:pathLst>
                  <a:path stroke="0" w="325123" h="900885">
                    <a:moveTo>
                      <a:pt x="162561" y="0"/>
                    </a:moveTo>
                    <a:cubicBezTo>
                      <a:pt x="252341" y="0"/>
                      <a:pt x="325122" y="201670"/>
                      <a:pt x="325122" y="450442"/>
                    </a:cubicBezTo>
                    <a:lnTo>
                      <a:pt x="162561" y="450442"/>
                    </a:lnTo>
                    <a:close/>
                  </a:path>
                  <a:path fill="none" w="325123" h="900885">
                    <a:moveTo>
                      <a:pt x="162561" y="0"/>
                    </a:moveTo>
                    <a:cubicBezTo>
                      <a:pt x="252341" y="0"/>
                      <a:pt x="325122" y="201670"/>
                      <a:pt x="325122" y="450442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1" name=""/>
              <p:cNvGrpSpPr/>
              <p:nvPr/>
            </p:nvGrpSpPr>
            <p:grpSpPr>
              <a:xfrm>
                <a:off x="5128560" y="3057120"/>
                <a:ext cx="1071360" cy="360"/>
                <a:chOff x="5128560" y="3057120"/>
                <a:chExt cx="1071360" cy="360"/>
              </a:xfrm>
            </p:grpSpPr>
            <p:sp>
              <p:nvSpPr>
                <p:cNvPr id="1052" name="直接连接符 15"/>
                <p:cNvSpPr/>
                <p:nvPr/>
              </p:nvSpPr>
              <p:spPr>
                <a:xfrm>
                  <a:off x="5128560" y="3057120"/>
                  <a:ext cx="1071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3" name=""/>
                <p:cNvSpPr txBox="1"/>
                <p:nvPr/>
              </p:nvSpPr>
              <p:spPr>
                <a:xfrm>
                  <a:off x="5128560" y="3057120"/>
                  <a:ext cx="1071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4" name=""/>
              <p:cNvGrpSpPr/>
              <p:nvPr/>
            </p:nvGrpSpPr>
            <p:grpSpPr>
              <a:xfrm>
                <a:off x="5106240" y="2263680"/>
                <a:ext cx="1071360" cy="360"/>
                <a:chOff x="5106240" y="2263680"/>
                <a:chExt cx="1071360" cy="360"/>
              </a:xfrm>
            </p:grpSpPr>
            <p:sp>
              <p:nvSpPr>
                <p:cNvPr id="1055" name="直接连接符 16"/>
                <p:cNvSpPr/>
                <p:nvPr/>
              </p:nvSpPr>
              <p:spPr>
                <a:xfrm>
                  <a:off x="5106240" y="2263680"/>
                  <a:ext cx="1071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6" name=""/>
                <p:cNvSpPr txBox="1"/>
                <p:nvPr/>
              </p:nvSpPr>
              <p:spPr>
                <a:xfrm>
                  <a:off x="5106240" y="2263680"/>
                  <a:ext cx="1071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7" name=""/>
              <p:cNvGrpSpPr/>
              <p:nvPr/>
            </p:nvGrpSpPr>
            <p:grpSpPr>
              <a:xfrm>
                <a:off x="5143680" y="3819600"/>
                <a:ext cx="1071360" cy="360"/>
                <a:chOff x="5143680" y="3819600"/>
                <a:chExt cx="1071360" cy="360"/>
              </a:xfrm>
            </p:grpSpPr>
            <p:sp>
              <p:nvSpPr>
                <p:cNvPr id="1058" name="直接连接符 17"/>
                <p:cNvSpPr/>
                <p:nvPr/>
              </p:nvSpPr>
              <p:spPr>
                <a:xfrm>
                  <a:off x="5143680" y="3819600"/>
                  <a:ext cx="107136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9" name=""/>
                <p:cNvSpPr txBox="1"/>
                <p:nvPr/>
              </p:nvSpPr>
              <p:spPr>
                <a:xfrm>
                  <a:off x="5143680" y="3819600"/>
                  <a:ext cx="107136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060" name=""/>
          <p:cNvGrpSpPr/>
          <p:nvPr/>
        </p:nvGrpSpPr>
        <p:grpSpPr>
          <a:xfrm>
            <a:off x="4868280" y="2384280"/>
            <a:ext cx="214920" cy="214560"/>
            <a:chOff x="4868280" y="2384280"/>
            <a:chExt cx="214920" cy="214560"/>
          </a:xfrm>
        </p:grpSpPr>
        <p:sp>
          <p:nvSpPr>
            <p:cNvPr id="1061" name="直接连接符 19"/>
            <p:cNvSpPr/>
            <p:nvPr/>
          </p:nvSpPr>
          <p:spPr>
            <a:xfrm>
              <a:off x="4868280" y="2384280"/>
              <a:ext cx="214200" cy="214560"/>
            </a:xfrm>
            <a:prstGeom prst="line">
              <a:avLst/>
            </a:prstGeom>
            <a:ln w="1908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 txBox="1"/>
            <p:nvPr/>
          </p:nvSpPr>
          <p:spPr>
            <a:xfrm rot="16200000">
              <a:off x="4868640" y="2384280"/>
              <a:ext cx="21456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3" name=""/>
          <p:cNvGrpSpPr/>
          <p:nvPr/>
        </p:nvGrpSpPr>
        <p:grpSpPr>
          <a:xfrm>
            <a:off x="5937120" y="2368440"/>
            <a:ext cx="214560" cy="214560"/>
            <a:chOff x="5937120" y="2368440"/>
            <a:chExt cx="214560" cy="214560"/>
          </a:xfrm>
        </p:grpSpPr>
        <p:sp>
          <p:nvSpPr>
            <p:cNvPr id="1064" name="直接连接符 20"/>
            <p:cNvSpPr/>
            <p:nvPr/>
          </p:nvSpPr>
          <p:spPr>
            <a:xfrm>
              <a:off x="5937120" y="2368440"/>
              <a:ext cx="214560" cy="214560"/>
            </a:xfrm>
            <a:prstGeom prst="line">
              <a:avLst/>
            </a:prstGeom>
            <a:ln w="1908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 txBox="1"/>
            <p:nvPr/>
          </p:nvSpPr>
          <p:spPr>
            <a:xfrm rot="16200000">
              <a:off x="5937120" y="2368440"/>
              <a:ext cx="214560" cy="214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6" name="组合 34"/>
          <p:cNvGrpSpPr/>
          <p:nvPr/>
        </p:nvGrpSpPr>
        <p:grpSpPr>
          <a:xfrm>
            <a:off x="6346800" y="2395440"/>
            <a:ext cx="2600280" cy="1533600"/>
            <a:chOff x="6346800" y="2395440"/>
            <a:chExt cx="2600280" cy="1533600"/>
          </a:xfrm>
        </p:grpSpPr>
        <p:pic>
          <p:nvPicPr>
            <p:cNvPr id="1067" name="图片 27" descr="234768-14051F0212184.jpg"/>
            <p:cNvPicPr/>
            <p:nvPr/>
          </p:nvPicPr>
          <p:blipFill>
            <a:blip r:embed="rId8"/>
            <a:stretch/>
          </p:blipFill>
          <p:spPr>
            <a:xfrm>
              <a:off x="8061120" y="2395440"/>
              <a:ext cx="885960" cy="13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8" name="TextBox 22"/>
            <p:cNvSpPr/>
            <p:nvPr/>
          </p:nvSpPr>
          <p:spPr>
            <a:xfrm>
              <a:off x="6346800" y="2835000"/>
              <a:ext cx="164268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我这样做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圆角矩形标注 24"/>
            <p:cNvSpPr/>
            <p:nvPr/>
          </p:nvSpPr>
          <p:spPr>
            <a:xfrm>
              <a:off x="6357960" y="2857680"/>
              <a:ext cx="1571400" cy="428400"/>
            </a:xfrm>
            <a:prstGeom prst="wedgeRoundRectCallout">
              <a:avLst>
                <a:gd name="adj1" fmla="val 61768"/>
                <a:gd name="adj2" fmla="val 3050"/>
                <a:gd name="adj3" fmla="val 16667"/>
              </a:avLst>
            </a:prstGeom>
            <a:noFill/>
            <a:ln w="25560">
              <a:solidFill>
                <a:srgbClr val="395e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TextBox 29"/>
            <p:cNvSpPr/>
            <p:nvPr/>
          </p:nvSpPr>
          <p:spPr>
            <a:xfrm>
              <a:off x="7500960" y="3429360"/>
              <a:ext cx="914040" cy="4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小英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1" name="组合 33"/>
          <p:cNvGrpSpPr/>
          <p:nvPr/>
        </p:nvGrpSpPr>
        <p:grpSpPr>
          <a:xfrm>
            <a:off x="71280" y="2286000"/>
            <a:ext cx="2632320" cy="1577880"/>
            <a:chOff x="71280" y="2286000"/>
            <a:chExt cx="2632320" cy="1577880"/>
          </a:xfrm>
        </p:grpSpPr>
        <p:pic>
          <p:nvPicPr>
            <p:cNvPr id="1072" name="图片 28" descr="20087116614671_2.jpg"/>
            <p:cNvPicPr/>
            <p:nvPr/>
          </p:nvPicPr>
          <p:blipFill>
            <a:blip r:embed="rId9"/>
            <a:stretch/>
          </p:blipFill>
          <p:spPr>
            <a:xfrm flipH="1">
              <a:off x="71280" y="2286000"/>
              <a:ext cx="1000080" cy="157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3" name="TextBox 21"/>
            <p:cNvSpPr/>
            <p:nvPr/>
          </p:nvSpPr>
          <p:spPr>
            <a:xfrm>
              <a:off x="1060200" y="2616840"/>
              <a:ext cx="16434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我这样做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圆角矩形标注 23"/>
            <p:cNvSpPr/>
            <p:nvPr/>
          </p:nvSpPr>
          <p:spPr>
            <a:xfrm>
              <a:off x="1071360" y="2643120"/>
              <a:ext cx="1571760" cy="428400"/>
            </a:xfrm>
            <a:prstGeom prst="wedgeRoundRectCallout">
              <a:avLst>
                <a:gd name="adj1" fmla="val -58898"/>
                <a:gd name="adj2" fmla="val 39921"/>
                <a:gd name="adj3" fmla="val 16667"/>
              </a:avLst>
            </a:prstGeom>
            <a:noFill/>
            <a:ln w="25560">
              <a:solidFill>
                <a:srgbClr val="395e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TextBox 30"/>
            <p:cNvSpPr/>
            <p:nvPr/>
          </p:nvSpPr>
          <p:spPr>
            <a:xfrm>
              <a:off x="785520" y="3214800"/>
              <a:ext cx="9144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小平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6" name="八边形 7"/>
          <p:cNvSpPr/>
          <p:nvPr/>
        </p:nvSpPr>
        <p:spPr>
          <a:xfrm>
            <a:off x="457200" y="923760"/>
            <a:ext cx="522360" cy="51768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TextBox 1"/>
          <p:cNvSpPr/>
          <p:nvPr/>
        </p:nvSpPr>
        <p:spPr>
          <a:xfrm>
            <a:off x="514440" y="9446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20÷15=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8" name="组合 13"/>
          <p:cNvGrpSpPr/>
          <p:nvPr/>
        </p:nvGrpSpPr>
        <p:grpSpPr>
          <a:xfrm>
            <a:off x="1214280" y="1144440"/>
            <a:ext cx="6697800" cy="1285920"/>
            <a:chOff x="1214280" y="1144440"/>
            <a:chExt cx="6697800" cy="1285920"/>
          </a:xfrm>
        </p:grpSpPr>
        <p:sp>
          <p:nvSpPr>
            <p:cNvPr id="1079" name="TextBox 2"/>
            <p:cNvSpPr/>
            <p:nvPr/>
          </p:nvSpPr>
          <p:spPr>
            <a:xfrm>
              <a:off x="1214280" y="1501560"/>
              <a:ext cx="95940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    </a:t>
              </a:r>
              <a:r>
                <a:rPr b="0" lang="zh-CN" sz="25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这道算式能运用商不变的规律使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计算更简便吗？可以怎样做？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圆角矩形标注 3"/>
            <p:cNvSpPr/>
            <p:nvPr/>
          </p:nvSpPr>
          <p:spPr>
            <a:xfrm>
              <a:off x="1214280" y="1515240"/>
              <a:ext cx="5173200" cy="857520"/>
            </a:xfrm>
            <a:prstGeom prst="wedgeRoundRectCallout">
              <a:avLst>
                <a:gd name="adj1" fmla="val 55949"/>
                <a:gd name="adj2" fmla="val 5791"/>
                <a:gd name="adj3" fmla="val 16667"/>
              </a:avLst>
            </a:prstGeom>
            <a:noFill/>
            <a:ln w="25560">
              <a:solidFill>
                <a:srgbClr val="395e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81" name="图片 4" descr="000.gif"/>
            <p:cNvPicPr/>
            <p:nvPr/>
          </p:nvPicPr>
          <p:blipFill>
            <a:blip r:embed="rId1"/>
            <a:stretch/>
          </p:blipFill>
          <p:spPr>
            <a:xfrm>
              <a:off x="6687360" y="1144440"/>
              <a:ext cx="1224720" cy="1285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82" name="矩形 5"/>
          <p:cNvSpPr/>
          <p:nvPr/>
        </p:nvSpPr>
        <p:spPr>
          <a:xfrm>
            <a:off x="1068840" y="2798640"/>
            <a:ext cx="34387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20÷1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20×2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5×2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=240÷3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=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矩形 6"/>
          <p:cNvSpPr/>
          <p:nvPr/>
        </p:nvSpPr>
        <p:spPr>
          <a:xfrm>
            <a:off x="5069520" y="2798640"/>
            <a:ext cx="34387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20÷1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20×4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÷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5×4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=480÷6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=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TextBox 7"/>
          <p:cNvSpPr/>
          <p:nvPr/>
        </p:nvSpPr>
        <p:spPr>
          <a:xfrm>
            <a:off x="357120" y="50148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小结</a:t>
            </a:r>
            <a:r>
              <a:rPr b="0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：</a:t>
            </a:r>
            <a:r>
              <a:rPr b="0" lang="zh-CN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这两种方法是把被除数和除数都乘</a:t>
            </a:r>
            <a:r>
              <a:rPr b="0" lang="en-US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2</a:t>
            </a:r>
            <a:r>
              <a:rPr b="0" lang="zh-CN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或都乘</a:t>
            </a:r>
            <a:r>
              <a:rPr b="0" lang="en-US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4</a:t>
            </a:r>
            <a:r>
              <a:rPr b="0" lang="zh-CN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      </a:t>
            </a:r>
            <a:r>
              <a:rPr b="0" lang="zh-CN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使除数</a:t>
            </a:r>
            <a:r>
              <a:rPr b="0" lang="en-US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15</a:t>
            </a:r>
            <a:r>
              <a:rPr b="0" lang="zh-CN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变成了整十数，这样方便我们口算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      </a:t>
            </a:r>
            <a:r>
              <a:rPr b="0" lang="zh-CN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出结果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TextBox 12"/>
          <p:cNvSpPr/>
          <p:nvPr/>
        </p:nvSpPr>
        <p:spPr>
          <a:xfrm>
            <a:off x="2951280" y="915840"/>
            <a:ext cx="357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TextBox 1"/>
          <p:cNvSpPr/>
          <p:nvPr/>
        </p:nvSpPr>
        <p:spPr>
          <a:xfrm>
            <a:off x="857160" y="93024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840÷50=</a:t>
            </a:r>
            <a:r>
              <a:rPr b="0" lang="en-US" sz="2500" spc="-1" strike="noStrike" u="sng">
                <a:solidFill>
                  <a:srgbClr val="000000"/>
                </a:solidFill>
                <a:uFillTx/>
                <a:latin typeface="Arial"/>
              </a:rPr>
              <a:t>      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TextBox 17"/>
          <p:cNvSpPr/>
          <p:nvPr/>
        </p:nvSpPr>
        <p:spPr>
          <a:xfrm>
            <a:off x="928800" y="3859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商都是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没错，余数到底是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还是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0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呢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TextBox 18"/>
          <p:cNvSpPr/>
          <p:nvPr/>
        </p:nvSpPr>
        <p:spPr>
          <a:xfrm>
            <a:off x="442800" y="46432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小结</a:t>
            </a:r>
            <a:r>
              <a:rPr b="0" lang="zh-CN" sz="2500" spc="-1" strike="noStrike">
                <a:solidFill>
                  <a:srgbClr val="ff0000"/>
                </a:solidFill>
                <a:latin typeface="Arial"/>
                <a:ea typeface="宋体"/>
              </a:rPr>
              <a:t>：</a:t>
            </a:r>
            <a:r>
              <a:rPr b="0" lang="zh-CN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用商不变的规律简便计算时要注意商是不变的，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      </a:t>
            </a:r>
            <a:r>
              <a:rPr b="0" lang="zh-CN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但是余数变了。被除数和除数末尾同时划去了几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      </a:t>
            </a:r>
            <a:r>
              <a:rPr b="0" lang="zh-CN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个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方正楷体简体"/>
              </a:rPr>
              <a:t>0</a:t>
            </a:r>
            <a:r>
              <a:rPr b="0" lang="zh-CN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，余数末尾就要添上几个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方正楷体简体"/>
              </a:rPr>
              <a:t>0</a:t>
            </a:r>
            <a:r>
              <a:rPr b="0" lang="zh-CN" sz="2500" spc="-1" strike="noStrike">
                <a:solidFill>
                  <a:srgbClr val="000000"/>
                </a:solidFill>
                <a:latin typeface="方正楷体简体"/>
                <a:ea typeface="方正楷体简体"/>
              </a:rPr>
              <a:t>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TextBox 19"/>
          <p:cNvSpPr/>
          <p:nvPr/>
        </p:nvSpPr>
        <p:spPr>
          <a:xfrm>
            <a:off x="2570040" y="919080"/>
            <a:ext cx="1285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16</a:t>
            </a: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……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4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0" name="组合 2"/>
          <p:cNvGrpSpPr/>
          <p:nvPr/>
        </p:nvGrpSpPr>
        <p:grpSpPr>
          <a:xfrm>
            <a:off x="3214800" y="1430280"/>
            <a:ext cx="1668240" cy="1962720"/>
            <a:chOff x="3214800" y="1430280"/>
            <a:chExt cx="1668240" cy="1962720"/>
          </a:xfrm>
        </p:grpSpPr>
        <p:sp>
          <p:nvSpPr>
            <p:cNvPr id="1091" name="TextBox 3"/>
            <p:cNvSpPr/>
            <p:nvPr/>
          </p:nvSpPr>
          <p:spPr>
            <a:xfrm>
              <a:off x="3214800" y="1430280"/>
              <a:ext cx="91368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1  6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5 0  8  4  0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3  4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       </a:t>
              </a: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3  0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           </a:t>
              </a:r>
              <a:r>
                <a:rPr b="0" lang="en-US" sz="25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92" name="组合 27"/>
            <p:cNvGrpSpPr/>
            <p:nvPr/>
          </p:nvGrpSpPr>
          <p:grpSpPr>
            <a:xfrm>
              <a:off x="3343320" y="1782720"/>
              <a:ext cx="1539720" cy="1610280"/>
              <a:chOff x="3343320" y="1782720"/>
              <a:chExt cx="1539720" cy="1610280"/>
            </a:xfrm>
          </p:grpSpPr>
          <p:sp>
            <p:nvSpPr>
              <p:cNvPr id="1093" name="弧形 5"/>
              <p:cNvSpPr/>
              <p:nvPr/>
            </p:nvSpPr>
            <p:spPr>
              <a:xfrm rot="1018800">
                <a:off x="3467880" y="1810440"/>
                <a:ext cx="324720" cy="900720"/>
              </a:xfrm>
              <a:custGeom>
                <a:avLst/>
                <a:gdLst/>
                <a:ahLst/>
                <a:rect l="l" t="t" r="r" b="b"/>
                <a:pathLst>
                  <a:path stroke="0" w="325123" h="900885">
                    <a:moveTo>
                      <a:pt x="162561" y="0"/>
                    </a:moveTo>
                    <a:cubicBezTo>
                      <a:pt x="252341" y="0"/>
                      <a:pt x="325122" y="201670"/>
                      <a:pt x="325122" y="450442"/>
                    </a:cubicBezTo>
                    <a:lnTo>
                      <a:pt x="162561" y="450442"/>
                    </a:lnTo>
                    <a:close/>
                  </a:path>
                  <a:path fill="none" w="325123" h="900885">
                    <a:moveTo>
                      <a:pt x="162561" y="0"/>
                    </a:moveTo>
                    <a:cubicBezTo>
                      <a:pt x="252341" y="0"/>
                      <a:pt x="325122" y="201670"/>
                      <a:pt x="325122" y="450442"/>
                    </a:cubicBezTo>
                  </a:path>
                </a:pathLst>
              </a:custGeom>
              <a:noFill/>
              <a:ln w="1908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94" name=""/>
              <p:cNvGrpSpPr/>
              <p:nvPr/>
            </p:nvGrpSpPr>
            <p:grpSpPr>
              <a:xfrm>
                <a:off x="3796920" y="2630160"/>
                <a:ext cx="1071000" cy="360"/>
                <a:chOff x="3796920" y="2630160"/>
                <a:chExt cx="1071000" cy="360"/>
              </a:xfrm>
            </p:grpSpPr>
            <p:sp>
              <p:nvSpPr>
                <p:cNvPr id="1095" name="直接连接符 6"/>
                <p:cNvSpPr/>
                <p:nvPr/>
              </p:nvSpPr>
              <p:spPr>
                <a:xfrm>
                  <a:off x="3796920" y="2630160"/>
                  <a:ext cx="1071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6" name=""/>
                <p:cNvSpPr txBox="1"/>
                <p:nvPr/>
              </p:nvSpPr>
              <p:spPr>
                <a:xfrm>
                  <a:off x="3796920" y="2630160"/>
                  <a:ext cx="1071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7" name=""/>
              <p:cNvGrpSpPr/>
              <p:nvPr/>
            </p:nvGrpSpPr>
            <p:grpSpPr>
              <a:xfrm>
                <a:off x="3774240" y="1836720"/>
                <a:ext cx="1071000" cy="360"/>
                <a:chOff x="3774240" y="1836720"/>
                <a:chExt cx="1071000" cy="360"/>
              </a:xfrm>
            </p:grpSpPr>
            <p:sp>
              <p:nvSpPr>
                <p:cNvPr id="1098" name="直接连接符 7"/>
                <p:cNvSpPr/>
                <p:nvPr/>
              </p:nvSpPr>
              <p:spPr>
                <a:xfrm>
                  <a:off x="3774240" y="1836720"/>
                  <a:ext cx="1071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"/>
                <p:cNvSpPr txBox="1"/>
                <p:nvPr/>
              </p:nvSpPr>
              <p:spPr>
                <a:xfrm>
                  <a:off x="3774240" y="1836720"/>
                  <a:ext cx="1071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0" name=""/>
              <p:cNvGrpSpPr/>
              <p:nvPr/>
            </p:nvGrpSpPr>
            <p:grpSpPr>
              <a:xfrm>
                <a:off x="3812040" y="3392640"/>
                <a:ext cx="1071000" cy="360"/>
                <a:chOff x="3812040" y="3392640"/>
                <a:chExt cx="1071000" cy="360"/>
              </a:xfrm>
            </p:grpSpPr>
            <p:sp>
              <p:nvSpPr>
                <p:cNvPr id="1101" name="直接连接符 8"/>
                <p:cNvSpPr/>
                <p:nvPr/>
              </p:nvSpPr>
              <p:spPr>
                <a:xfrm>
                  <a:off x="3812040" y="3392640"/>
                  <a:ext cx="10710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2" name=""/>
                <p:cNvSpPr txBox="1"/>
                <p:nvPr/>
              </p:nvSpPr>
              <p:spPr>
                <a:xfrm>
                  <a:off x="3812040" y="3392640"/>
                  <a:ext cx="1071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03" name=""/>
          <p:cNvGrpSpPr/>
          <p:nvPr/>
        </p:nvGrpSpPr>
        <p:grpSpPr>
          <a:xfrm>
            <a:off x="3538440" y="1957320"/>
            <a:ext cx="214560" cy="214560"/>
            <a:chOff x="3538440" y="1957320"/>
            <a:chExt cx="214560" cy="214560"/>
          </a:xfrm>
        </p:grpSpPr>
        <p:sp>
          <p:nvSpPr>
            <p:cNvPr id="1104" name="直接连接符 9"/>
            <p:cNvSpPr/>
            <p:nvPr/>
          </p:nvSpPr>
          <p:spPr>
            <a:xfrm>
              <a:off x="3538440" y="1957320"/>
              <a:ext cx="214560" cy="214560"/>
            </a:xfrm>
            <a:prstGeom prst="line">
              <a:avLst/>
            </a:prstGeom>
            <a:ln w="1908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"/>
            <p:cNvSpPr txBox="1"/>
            <p:nvPr/>
          </p:nvSpPr>
          <p:spPr>
            <a:xfrm rot="16200000">
              <a:off x="3538440" y="1957320"/>
              <a:ext cx="214560" cy="2145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6" name=""/>
          <p:cNvGrpSpPr/>
          <p:nvPr/>
        </p:nvGrpSpPr>
        <p:grpSpPr>
          <a:xfrm>
            <a:off x="4604760" y="1941120"/>
            <a:ext cx="214920" cy="214560"/>
            <a:chOff x="4604760" y="1941120"/>
            <a:chExt cx="214920" cy="214560"/>
          </a:xfrm>
        </p:grpSpPr>
        <p:sp>
          <p:nvSpPr>
            <p:cNvPr id="1107" name="直接连接符 10"/>
            <p:cNvSpPr/>
            <p:nvPr/>
          </p:nvSpPr>
          <p:spPr>
            <a:xfrm>
              <a:off x="4604760" y="1941480"/>
              <a:ext cx="214200" cy="214200"/>
            </a:xfrm>
            <a:prstGeom prst="line">
              <a:avLst/>
            </a:prstGeom>
            <a:ln w="19080">
              <a:solidFill>
                <a:srgbClr val="ff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"/>
            <p:cNvSpPr txBox="1"/>
            <p:nvPr/>
          </p:nvSpPr>
          <p:spPr>
            <a:xfrm rot="16200000">
              <a:off x="4605480" y="1941120"/>
              <a:ext cx="214200" cy="21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9" name="组合 20"/>
          <p:cNvGrpSpPr/>
          <p:nvPr/>
        </p:nvGrpSpPr>
        <p:grpSpPr>
          <a:xfrm>
            <a:off x="1000080" y="1787400"/>
            <a:ext cx="1785960" cy="1357560"/>
            <a:chOff x="1000080" y="1787400"/>
            <a:chExt cx="1785960" cy="1357560"/>
          </a:xfrm>
        </p:grpSpPr>
        <p:sp>
          <p:nvSpPr>
            <p:cNvPr id="1110" name="TextBox 11"/>
            <p:cNvSpPr/>
            <p:nvPr/>
          </p:nvSpPr>
          <p:spPr>
            <a:xfrm>
              <a:off x="1928880" y="2073240"/>
              <a:ext cx="78588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余</a:t>
              </a:r>
              <a:r>
                <a:rPr b="0" lang="en-US" sz="2500" spc="-1" strike="noStrike">
                  <a:solidFill>
                    <a:srgbClr val="000000"/>
                  </a:solidFill>
                  <a:latin typeface="Arial"/>
                  <a:ea typeface="方正楷体简体"/>
                </a:rPr>
                <a:t>4</a:t>
              </a:r>
              <a:r>
                <a:rPr b="0" lang="zh-CN" sz="25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1" name="图片 13" descr="20087116614671_2.jpg"/>
            <p:cNvPicPr/>
            <p:nvPr/>
          </p:nvPicPr>
          <p:blipFill>
            <a:blip r:embed="rId1"/>
            <a:stretch/>
          </p:blipFill>
          <p:spPr>
            <a:xfrm flipH="1">
              <a:off x="1000080" y="1787400"/>
              <a:ext cx="860400" cy="135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2" name="圆角矩形标注 15"/>
            <p:cNvSpPr/>
            <p:nvPr/>
          </p:nvSpPr>
          <p:spPr>
            <a:xfrm>
              <a:off x="1928880" y="2095560"/>
              <a:ext cx="857160" cy="428760"/>
            </a:xfrm>
            <a:prstGeom prst="wedgeRoundRectCallout">
              <a:avLst>
                <a:gd name="adj1" fmla="val -72189"/>
                <a:gd name="adj2" fmla="val 1921"/>
                <a:gd name="adj3" fmla="val 16667"/>
              </a:avLst>
            </a:prstGeom>
            <a:noFill/>
            <a:ln w="25560">
              <a:solidFill>
                <a:srgbClr val="395e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3" name="组合 21"/>
          <p:cNvGrpSpPr/>
          <p:nvPr/>
        </p:nvGrpSpPr>
        <p:grpSpPr>
          <a:xfrm>
            <a:off x="5572080" y="1644480"/>
            <a:ext cx="1785960" cy="1189080"/>
            <a:chOff x="5572080" y="1644480"/>
            <a:chExt cx="1785960" cy="1189080"/>
          </a:xfrm>
        </p:grpSpPr>
        <p:sp>
          <p:nvSpPr>
            <p:cNvPr id="1114" name="TextBox 12"/>
            <p:cNvSpPr/>
            <p:nvPr/>
          </p:nvSpPr>
          <p:spPr>
            <a:xfrm>
              <a:off x="5575680" y="2073240"/>
              <a:ext cx="78588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余</a:t>
              </a:r>
              <a:r>
                <a:rPr b="0" lang="en-US" sz="2500" spc="-1" strike="noStrike">
                  <a:solidFill>
                    <a:srgbClr val="000000"/>
                  </a:solidFill>
                  <a:latin typeface="Arial"/>
                  <a:ea typeface="方正楷体简体"/>
                </a:rPr>
                <a:t>40</a:t>
              </a:r>
              <a:r>
                <a:rPr b="0" lang="zh-CN" sz="2500" spc="-1" strike="noStrike">
                  <a:solidFill>
                    <a:srgbClr val="000000"/>
                  </a:solidFill>
                  <a:latin typeface="方正楷体简体"/>
                  <a:ea typeface="方正楷体简体"/>
                </a:rPr>
                <a:t>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5" name="图片 14" descr="11.gif"/>
            <p:cNvPicPr/>
            <p:nvPr/>
          </p:nvPicPr>
          <p:blipFill>
            <a:blip r:embed="rId2"/>
            <a:stretch/>
          </p:blipFill>
          <p:spPr>
            <a:xfrm>
              <a:off x="6715080" y="1644480"/>
              <a:ext cx="642960" cy="1189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6" name="圆角矩形标注 16"/>
            <p:cNvSpPr/>
            <p:nvPr/>
          </p:nvSpPr>
          <p:spPr>
            <a:xfrm>
              <a:off x="5572080" y="2107080"/>
              <a:ext cx="1000080" cy="428760"/>
            </a:xfrm>
            <a:prstGeom prst="wedgeRoundRectCallout">
              <a:avLst>
                <a:gd name="adj1" fmla="val 67393"/>
                <a:gd name="adj2" fmla="val 7189"/>
                <a:gd name="adj3" fmla="val 16667"/>
              </a:avLst>
            </a:prstGeom>
            <a:noFill/>
            <a:ln w="25560">
              <a:solidFill>
                <a:srgbClr val="395e8a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7" name="八边形 1"/>
          <p:cNvSpPr/>
          <p:nvPr/>
        </p:nvSpPr>
        <p:spPr>
          <a:xfrm>
            <a:off x="600120" y="851040"/>
            <a:ext cx="523800" cy="517320"/>
          </a:xfrm>
          <a:prstGeom prst="octagon">
            <a:avLst>
              <a:gd name="adj" fmla="val 29287"/>
            </a:avLst>
          </a:prstGeom>
          <a:solidFill>
            <a:srgbClr val="0070c0"/>
          </a:solidFill>
          <a:ln w="12600">
            <a:solidFill>
              <a:srgbClr val="9595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文本框 2"/>
          <p:cNvSpPr/>
          <p:nvPr/>
        </p:nvSpPr>
        <p:spPr>
          <a:xfrm>
            <a:off x="517680" y="822240"/>
            <a:ext cx="89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TextBox 4"/>
          <p:cNvSpPr/>
          <p:nvPr/>
        </p:nvSpPr>
        <p:spPr>
          <a:xfrm>
            <a:off x="428760" y="7174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600÷40                             540÷20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670÷30                             980÷5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TextBox 28"/>
          <p:cNvSpPr/>
          <p:nvPr/>
        </p:nvSpPr>
        <p:spPr>
          <a:xfrm>
            <a:off x="2131920" y="746280"/>
            <a:ext cx="3571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=15</a:t>
            </a:r>
            <a:r>
              <a:rPr b="0" lang="en-US" sz="2500" spc="-1" strike="noStrike">
                <a:solidFill>
                  <a:srgbClr val="c00000"/>
                </a:solidFill>
                <a:latin typeface="Arial"/>
              </a:rPr>
              <a:t>     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TextBox 28"/>
          <p:cNvSpPr/>
          <p:nvPr/>
        </p:nvSpPr>
        <p:spPr>
          <a:xfrm>
            <a:off x="5937120" y="746280"/>
            <a:ext cx="3574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=14</a:t>
            </a:r>
            <a:r>
              <a:rPr b="0" lang="en-US" sz="2500" spc="-1" strike="noStrike">
                <a:solidFill>
                  <a:srgbClr val="c00000"/>
                </a:solidFill>
                <a:latin typeface="Arial"/>
              </a:rPr>
              <a:t>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c00000"/>
                </a:solidFill>
                <a:latin typeface="Arial"/>
              </a:rPr>
              <a:t>               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TextBox 28"/>
          <p:cNvSpPr/>
          <p:nvPr/>
        </p:nvSpPr>
        <p:spPr>
          <a:xfrm>
            <a:off x="2112840" y="3387600"/>
            <a:ext cx="357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=22······10</a:t>
            </a:r>
            <a:r>
              <a:rPr b="0" lang="en-US" sz="2500" spc="-1" strike="noStrike">
                <a:solidFill>
                  <a:srgbClr val="c00000"/>
                </a:solidFill>
                <a:latin typeface="Arial"/>
              </a:rPr>
              <a:t>   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TextBox 28"/>
          <p:cNvSpPr/>
          <p:nvPr/>
        </p:nvSpPr>
        <p:spPr>
          <a:xfrm>
            <a:off x="5880240" y="3387600"/>
            <a:ext cx="357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=19······30   </a:t>
            </a:r>
            <a:r>
              <a:rPr b="0" lang="en-US" sz="2500" spc="-1" strike="noStrike">
                <a:solidFill>
                  <a:srgbClr val="c00000"/>
                </a:solidFill>
                <a:latin typeface="Arial"/>
              </a:rPr>
              <a:t>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4" name="组合 58377"/>
          <p:cNvGrpSpPr/>
          <p:nvPr/>
        </p:nvGrpSpPr>
        <p:grpSpPr>
          <a:xfrm>
            <a:off x="285840" y="1100160"/>
            <a:ext cx="1740600" cy="1970280"/>
            <a:chOff x="285840" y="1100160"/>
            <a:chExt cx="1740600" cy="1970280"/>
          </a:xfrm>
        </p:grpSpPr>
        <p:sp>
          <p:nvSpPr>
            <p:cNvPr id="1125" name="TextBox 18"/>
            <p:cNvSpPr/>
            <p:nvPr/>
          </p:nvSpPr>
          <p:spPr>
            <a:xfrm>
              <a:off x="285840" y="1100160"/>
              <a:ext cx="913680" cy="91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        </a:t>
              </a: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1  5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40  6  0  0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        </a:t>
              </a: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        </a:t>
              </a: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2  0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        </a:t>
              </a: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2  0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            </a:t>
              </a: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6" name=""/>
            <p:cNvGrpSpPr/>
            <p:nvPr/>
          </p:nvGrpSpPr>
          <p:grpSpPr>
            <a:xfrm>
              <a:off x="713520" y="1599480"/>
              <a:ext cx="214920" cy="214560"/>
              <a:chOff x="713520" y="1599480"/>
              <a:chExt cx="214920" cy="214560"/>
            </a:xfrm>
          </p:grpSpPr>
          <p:sp>
            <p:nvSpPr>
              <p:cNvPr id="1127" name="直接连接符 9"/>
              <p:cNvSpPr/>
              <p:nvPr/>
            </p:nvSpPr>
            <p:spPr>
              <a:xfrm>
                <a:off x="713520" y="1599480"/>
                <a:ext cx="214200" cy="21456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8" name=""/>
              <p:cNvSpPr txBox="1"/>
              <p:nvPr/>
            </p:nvSpPr>
            <p:spPr>
              <a:xfrm rot="16200000">
                <a:off x="713880" y="1599480"/>
                <a:ext cx="214560" cy="214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29" name=""/>
            <p:cNvGrpSpPr/>
            <p:nvPr/>
          </p:nvGrpSpPr>
          <p:grpSpPr>
            <a:xfrm>
              <a:off x="1779120" y="1593360"/>
              <a:ext cx="213840" cy="214560"/>
              <a:chOff x="1779120" y="1593360"/>
              <a:chExt cx="213840" cy="214560"/>
            </a:xfrm>
          </p:grpSpPr>
          <p:sp>
            <p:nvSpPr>
              <p:cNvPr id="1130" name="直接连接符 9"/>
              <p:cNvSpPr/>
              <p:nvPr/>
            </p:nvSpPr>
            <p:spPr>
              <a:xfrm>
                <a:off x="1779120" y="1593360"/>
                <a:ext cx="213840" cy="21456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 txBox="1"/>
              <p:nvPr/>
            </p:nvSpPr>
            <p:spPr>
              <a:xfrm rot="16200000">
                <a:off x="1778760" y="1593720"/>
                <a:ext cx="214560" cy="213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2" name="组合 58381"/>
            <p:cNvGrpSpPr/>
            <p:nvPr/>
          </p:nvGrpSpPr>
          <p:grpSpPr>
            <a:xfrm>
              <a:off x="494640" y="1489320"/>
              <a:ext cx="1531800" cy="1581120"/>
              <a:chOff x="494640" y="1489320"/>
              <a:chExt cx="1531800" cy="1581120"/>
            </a:xfrm>
          </p:grpSpPr>
          <p:sp>
            <p:nvSpPr>
              <p:cNvPr id="1133" name="弧形 6"/>
              <p:cNvSpPr/>
              <p:nvPr/>
            </p:nvSpPr>
            <p:spPr>
              <a:xfrm rot="960000">
                <a:off x="612360" y="1516320"/>
                <a:ext cx="324000" cy="900000"/>
              </a:xfrm>
              <a:custGeom>
                <a:avLst/>
                <a:gdLst/>
                <a:ahLst/>
                <a:rect l="l" t="t" r="r" b="b"/>
                <a:pathLst>
                  <a:path stroke="0" w="325123" h="900885">
                    <a:moveTo>
                      <a:pt x="162561" y="0"/>
                    </a:moveTo>
                    <a:cubicBezTo>
                      <a:pt x="252341" y="0"/>
                      <a:pt x="325122" y="201670"/>
                      <a:pt x="325122" y="450442"/>
                    </a:cubicBezTo>
                    <a:lnTo>
                      <a:pt x="162561" y="450442"/>
                    </a:lnTo>
                    <a:close/>
                  </a:path>
                  <a:path fill="none" w="325123" h="900885">
                    <a:moveTo>
                      <a:pt x="162561" y="0"/>
                    </a:moveTo>
                    <a:cubicBezTo>
                      <a:pt x="252341" y="0"/>
                      <a:pt x="325122" y="201670"/>
                      <a:pt x="325122" y="450442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4" name=""/>
              <p:cNvGrpSpPr/>
              <p:nvPr/>
            </p:nvGrpSpPr>
            <p:grpSpPr>
              <a:xfrm>
                <a:off x="941400" y="2297880"/>
                <a:ext cx="1069920" cy="360"/>
                <a:chOff x="941400" y="2297880"/>
                <a:chExt cx="1069920" cy="360"/>
              </a:xfrm>
            </p:grpSpPr>
            <p:sp>
              <p:nvSpPr>
                <p:cNvPr id="1135" name="直接连接符 7"/>
                <p:cNvSpPr/>
                <p:nvPr/>
              </p:nvSpPr>
              <p:spPr>
                <a:xfrm>
                  <a:off x="941400" y="2297880"/>
                  <a:ext cx="106992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6" name=""/>
                <p:cNvSpPr txBox="1"/>
                <p:nvPr/>
              </p:nvSpPr>
              <p:spPr>
                <a:xfrm>
                  <a:off x="941400" y="2297880"/>
                  <a:ext cx="1069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7" name=""/>
              <p:cNvGrpSpPr/>
              <p:nvPr/>
            </p:nvGrpSpPr>
            <p:grpSpPr>
              <a:xfrm>
                <a:off x="918720" y="1542600"/>
                <a:ext cx="1069920" cy="360"/>
                <a:chOff x="918720" y="1542600"/>
                <a:chExt cx="1069920" cy="360"/>
              </a:xfrm>
            </p:grpSpPr>
            <p:sp>
              <p:nvSpPr>
                <p:cNvPr id="1138" name="直接连接符 8"/>
                <p:cNvSpPr/>
                <p:nvPr/>
              </p:nvSpPr>
              <p:spPr>
                <a:xfrm>
                  <a:off x="918720" y="1542600"/>
                  <a:ext cx="106992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9" name=""/>
                <p:cNvSpPr txBox="1"/>
                <p:nvPr/>
              </p:nvSpPr>
              <p:spPr>
                <a:xfrm>
                  <a:off x="918720" y="1542600"/>
                  <a:ext cx="1069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0" name=""/>
              <p:cNvGrpSpPr/>
              <p:nvPr/>
            </p:nvGrpSpPr>
            <p:grpSpPr>
              <a:xfrm>
                <a:off x="956520" y="3070080"/>
                <a:ext cx="1069920" cy="360"/>
                <a:chOff x="956520" y="3070080"/>
                <a:chExt cx="1069920" cy="360"/>
              </a:xfrm>
            </p:grpSpPr>
            <p:sp>
              <p:nvSpPr>
                <p:cNvPr id="1141" name="直接连接符 9"/>
                <p:cNvSpPr/>
                <p:nvPr/>
              </p:nvSpPr>
              <p:spPr>
                <a:xfrm>
                  <a:off x="956520" y="3070080"/>
                  <a:ext cx="106992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2" name=""/>
                <p:cNvSpPr txBox="1"/>
                <p:nvPr/>
              </p:nvSpPr>
              <p:spPr>
                <a:xfrm>
                  <a:off x="956520" y="3070080"/>
                  <a:ext cx="1069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43" name="组合 58386"/>
          <p:cNvGrpSpPr/>
          <p:nvPr/>
        </p:nvGrpSpPr>
        <p:grpSpPr>
          <a:xfrm>
            <a:off x="4481640" y="1100160"/>
            <a:ext cx="1793880" cy="1970280"/>
            <a:chOff x="4481640" y="1100160"/>
            <a:chExt cx="1793880" cy="1970280"/>
          </a:xfrm>
        </p:grpSpPr>
        <p:sp>
          <p:nvSpPr>
            <p:cNvPr id="1144" name="TextBox 18"/>
            <p:cNvSpPr/>
            <p:nvPr/>
          </p:nvSpPr>
          <p:spPr>
            <a:xfrm>
              <a:off x="4481640" y="1100160"/>
              <a:ext cx="913680" cy="91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        </a:t>
              </a: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2  7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20  5  4  0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        </a:t>
              </a: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4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        </a:t>
              </a: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1  4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        </a:t>
              </a: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1  4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            </a:t>
              </a: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0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5" name=""/>
            <p:cNvGrpSpPr/>
            <p:nvPr/>
          </p:nvGrpSpPr>
          <p:grpSpPr>
            <a:xfrm>
              <a:off x="4923000" y="1593360"/>
              <a:ext cx="213840" cy="214560"/>
              <a:chOff x="4923000" y="1593360"/>
              <a:chExt cx="213840" cy="214560"/>
            </a:xfrm>
          </p:grpSpPr>
          <p:sp>
            <p:nvSpPr>
              <p:cNvPr id="1146" name="直接连接符 9"/>
              <p:cNvSpPr/>
              <p:nvPr/>
            </p:nvSpPr>
            <p:spPr>
              <a:xfrm>
                <a:off x="4923000" y="1593360"/>
                <a:ext cx="213840" cy="21456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 txBox="1"/>
              <p:nvPr/>
            </p:nvSpPr>
            <p:spPr>
              <a:xfrm rot="16200000">
                <a:off x="4922640" y="1593720"/>
                <a:ext cx="214560" cy="213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48" name=""/>
            <p:cNvGrpSpPr/>
            <p:nvPr/>
          </p:nvGrpSpPr>
          <p:grpSpPr>
            <a:xfrm>
              <a:off x="6000480" y="1599480"/>
              <a:ext cx="214560" cy="214560"/>
              <a:chOff x="6000480" y="1599480"/>
              <a:chExt cx="214560" cy="214560"/>
            </a:xfrm>
          </p:grpSpPr>
          <p:sp>
            <p:nvSpPr>
              <p:cNvPr id="1149" name="直接连接符 9"/>
              <p:cNvSpPr/>
              <p:nvPr/>
            </p:nvSpPr>
            <p:spPr>
              <a:xfrm>
                <a:off x="6000480" y="1599480"/>
                <a:ext cx="214560" cy="21456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 txBox="1"/>
              <p:nvPr/>
            </p:nvSpPr>
            <p:spPr>
              <a:xfrm rot="16200000">
                <a:off x="6000480" y="1599480"/>
                <a:ext cx="214560" cy="21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51" name="组合 58390"/>
            <p:cNvGrpSpPr/>
            <p:nvPr/>
          </p:nvGrpSpPr>
          <p:grpSpPr>
            <a:xfrm>
              <a:off x="4742280" y="1489320"/>
              <a:ext cx="1533240" cy="1581120"/>
              <a:chOff x="4742280" y="1489320"/>
              <a:chExt cx="1533240" cy="1581120"/>
            </a:xfrm>
          </p:grpSpPr>
          <p:sp>
            <p:nvSpPr>
              <p:cNvPr id="1152" name="弧形 6"/>
              <p:cNvSpPr/>
              <p:nvPr/>
            </p:nvSpPr>
            <p:spPr>
              <a:xfrm rot="960000">
                <a:off x="4860000" y="1516320"/>
                <a:ext cx="324000" cy="900000"/>
              </a:xfrm>
              <a:custGeom>
                <a:avLst/>
                <a:gdLst/>
                <a:ahLst/>
                <a:rect l="l" t="t" r="r" b="b"/>
                <a:pathLst>
                  <a:path stroke="0" w="325123" h="900885">
                    <a:moveTo>
                      <a:pt x="162561" y="0"/>
                    </a:moveTo>
                    <a:cubicBezTo>
                      <a:pt x="252341" y="0"/>
                      <a:pt x="325122" y="201670"/>
                      <a:pt x="325122" y="450442"/>
                    </a:cubicBezTo>
                    <a:lnTo>
                      <a:pt x="162561" y="450442"/>
                    </a:lnTo>
                    <a:close/>
                  </a:path>
                  <a:path fill="none" w="325123" h="900885">
                    <a:moveTo>
                      <a:pt x="162561" y="0"/>
                    </a:moveTo>
                    <a:cubicBezTo>
                      <a:pt x="252341" y="0"/>
                      <a:pt x="325122" y="201670"/>
                      <a:pt x="325122" y="450442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53" name=""/>
              <p:cNvGrpSpPr/>
              <p:nvPr/>
            </p:nvGrpSpPr>
            <p:grpSpPr>
              <a:xfrm>
                <a:off x="5189400" y="2297880"/>
                <a:ext cx="1070640" cy="360"/>
                <a:chOff x="5189400" y="2297880"/>
                <a:chExt cx="1070640" cy="360"/>
              </a:xfrm>
            </p:grpSpPr>
            <p:sp>
              <p:nvSpPr>
                <p:cNvPr id="1154" name="直接连接符 7"/>
                <p:cNvSpPr/>
                <p:nvPr/>
              </p:nvSpPr>
              <p:spPr>
                <a:xfrm>
                  <a:off x="5189400" y="2297880"/>
                  <a:ext cx="107064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5" name=""/>
                <p:cNvSpPr txBox="1"/>
                <p:nvPr/>
              </p:nvSpPr>
              <p:spPr>
                <a:xfrm>
                  <a:off x="5189400" y="2297880"/>
                  <a:ext cx="1070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6" name=""/>
              <p:cNvGrpSpPr/>
              <p:nvPr/>
            </p:nvGrpSpPr>
            <p:grpSpPr>
              <a:xfrm>
                <a:off x="5166360" y="1542600"/>
                <a:ext cx="1070640" cy="360"/>
                <a:chOff x="5166360" y="1542600"/>
                <a:chExt cx="1070640" cy="360"/>
              </a:xfrm>
            </p:grpSpPr>
            <p:sp>
              <p:nvSpPr>
                <p:cNvPr id="1157" name="直接连接符 8"/>
                <p:cNvSpPr/>
                <p:nvPr/>
              </p:nvSpPr>
              <p:spPr>
                <a:xfrm>
                  <a:off x="5166360" y="1542600"/>
                  <a:ext cx="107064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8" name=""/>
                <p:cNvSpPr txBox="1"/>
                <p:nvPr/>
              </p:nvSpPr>
              <p:spPr>
                <a:xfrm>
                  <a:off x="5166360" y="1542600"/>
                  <a:ext cx="1070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9" name=""/>
              <p:cNvGrpSpPr/>
              <p:nvPr/>
            </p:nvGrpSpPr>
            <p:grpSpPr>
              <a:xfrm>
                <a:off x="5204520" y="3070080"/>
                <a:ext cx="1071000" cy="360"/>
                <a:chOff x="5204520" y="3070080"/>
                <a:chExt cx="1071000" cy="360"/>
              </a:xfrm>
            </p:grpSpPr>
            <p:sp>
              <p:nvSpPr>
                <p:cNvPr id="1160" name="直接连接符 9"/>
                <p:cNvSpPr/>
                <p:nvPr/>
              </p:nvSpPr>
              <p:spPr>
                <a:xfrm>
                  <a:off x="5204520" y="3070080"/>
                  <a:ext cx="107100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1" name=""/>
                <p:cNvSpPr txBox="1"/>
                <p:nvPr/>
              </p:nvSpPr>
              <p:spPr>
                <a:xfrm>
                  <a:off x="5204520" y="3070080"/>
                  <a:ext cx="107100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62" name="组合 58395"/>
          <p:cNvGrpSpPr/>
          <p:nvPr/>
        </p:nvGrpSpPr>
        <p:grpSpPr>
          <a:xfrm>
            <a:off x="593640" y="3887640"/>
            <a:ext cx="1780920" cy="1941840"/>
            <a:chOff x="593640" y="3887640"/>
            <a:chExt cx="1780920" cy="1941840"/>
          </a:xfrm>
        </p:grpSpPr>
        <p:sp>
          <p:nvSpPr>
            <p:cNvPr id="1163" name="TextBox 18"/>
            <p:cNvSpPr/>
            <p:nvPr/>
          </p:nvSpPr>
          <p:spPr>
            <a:xfrm>
              <a:off x="593640" y="3887640"/>
              <a:ext cx="913680" cy="91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        </a:t>
              </a: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2  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30  6  7  0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        </a:t>
              </a: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           </a:t>
              </a:r>
              <a:r>
                <a:rPr b="0" lang="zh-CN" sz="2500" spc="-1" strike="noStrike">
                  <a:solidFill>
                    <a:srgbClr val="ff0000"/>
                  </a:solidFill>
                  <a:latin typeface="Arial"/>
                  <a:ea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7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           </a:t>
              </a:r>
              <a:r>
                <a:rPr b="0" lang="zh-CN" sz="2500" spc="-1" strike="noStrike">
                  <a:solidFill>
                    <a:srgbClr val="ff0000"/>
                  </a:solidFill>
                  <a:latin typeface="Arial"/>
                  <a:ea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6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           </a:t>
              </a:r>
              <a:r>
                <a:rPr b="0" lang="zh-CN" sz="2500" spc="-1" strike="noStrike">
                  <a:solidFill>
                    <a:srgbClr val="ff0000"/>
                  </a:solidFill>
                  <a:latin typeface="Arial"/>
                  <a:ea typeface="宋体"/>
                </a:rPr>
                <a:t> </a:t>
              </a: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1  0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4" name=""/>
            <p:cNvGrpSpPr/>
            <p:nvPr/>
          </p:nvGrpSpPr>
          <p:grpSpPr>
            <a:xfrm>
              <a:off x="1040040" y="4387320"/>
              <a:ext cx="214920" cy="214560"/>
              <a:chOff x="1040040" y="4387320"/>
              <a:chExt cx="214920" cy="214560"/>
            </a:xfrm>
          </p:grpSpPr>
          <p:sp>
            <p:nvSpPr>
              <p:cNvPr id="1165" name="直接连接符 9"/>
              <p:cNvSpPr/>
              <p:nvPr/>
            </p:nvSpPr>
            <p:spPr>
              <a:xfrm>
                <a:off x="1040040" y="4387320"/>
                <a:ext cx="214200" cy="21456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6" name=""/>
              <p:cNvSpPr txBox="1"/>
              <p:nvPr/>
            </p:nvSpPr>
            <p:spPr>
              <a:xfrm rot="16200000">
                <a:off x="1040400" y="4387320"/>
                <a:ext cx="214560" cy="214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7" name=""/>
            <p:cNvGrpSpPr/>
            <p:nvPr/>
          </p:nvGrpSpPr>
          <p:grpSpPr>
            <a:xfrm>
              <a:off x="2105640" y="4380840"/>
              <a:ext cx="213840" cy="214560"/>
              <a:chOff x="2105640" y="4380840"/>
              <a:chExt cx="213840" cy="214560"/>
            </a:xfrm>
          </p:grpSpPr>
          <p:sp>
            <p:nvSpPr>
              <p:cNvPr id="1168" name="直接连接符 9"/>
              <p:cNvSpPr/>
              <p:nvPr/>
            </p:nvSpPr>
            <p:spPr>
              <a:xfrm>
                <a:off x="2105640" y="4380840"/>
                <a:ext cx="213840" cy="21456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9" name=""/>
              <p:cNvSpPr txBox="1"/>
              <p:nvPr/>
            </p:nvSpPr>
            <p:spPr>
              <a:xfrm rot="16200000">
                <a:off x="2105280" y="4381200"/>
                <a:ext cx="214560" cy="213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70" name="组合 58399"/>
            <p:cNvGrpSpPr/>
            <p:nvPr/>
          </p:nvGrpSpPr>
          <p:grpSpPr>
            <a:xfrm>
              <a:off x="842760" y="4248000"/>
              <a:ext cx="1531800" cy="1581480"/>
              <a:chOff x="842760" y="4248000"/>
              <a:chExt cx="1531800" cy="1581480"/>
            </a:xfrm>
          </p:grpSpPr>
          <p:sp>
            <p:nvSpPr>
              <p:cNvPr id="1171" name="弧形 6"/>
              <p:cNvSpPr/>
              <p:nvPr/>
            </p:nvSpPr>
            <p:spPr>
              <a:xfrm rot="960000">
                <a:off x="960120" y="4275000"/>
                <a:ext cx="324000" cy="900360"/>
              </a:xfrm>
              <a:custGeom>
                <a:avLst/>
                <a:gdLst/>
                <a:ahLst/>
                <a:rect l="l" t="t" r="r" b="b"/>
                <a:pathLst>
                  <a:path stroke="0" w="325123" h="900885">
                    <a:moveTo>
                      <a:pt x="162561" y="0"/>
                    </a:moveTo>
                    <a:cubicBezTo>
                      <a:pt x="252341" y="0"/>
                      <a:pt x="325122" y="201670"/>
                      <a:pt x="325122" y="450442"/>
                    </a:cubicBezTo>
                    <a:lnTo>
                      <a:pt x="162561" y="450442"/>
                    </a:lnTo>
                    <a:close/>
                  </a:path>
                  <a:path fill="none" w="325123" h="900885">
                    <a:moveTo>
                      <a:pt x="162561" y="0"/>
                    </a:moveTo>
                    <a:cubicBezTo>
                      <a:pt x="252341" y="0"/>
                      <a:pt x="325122" y="201670"/>
                      <a:pt x="325122" y="450442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72" name=""/>
              <p:cNvGrpSpPr/>
              <p:nvPr/>
            </p:nvGrpSpPr>
            <p:grpSpPr>
              <a:xfrm>
                <a:off x="1289520" y="5056920"/>
                <a:ext cx="1069920" cy="360"/>
                <a:chOff x="1289520" y="5056920"/>
                <a:chExt cx="1069920" cy="360"/>
              </a:xfrm>
            </p:grpSpPr>
            <p:sp>
              <p:nvSpPr>
                <p:cNvPr id="1173" name="直接连接符 7"/>
                <p:cNvSpPr/>
                <p:nvPr/>
              </p:nvSpPr>
              <p:spPr>
                <a:xfrm>
                  <a:off x="1289520" y="5056920"/>
                  <a:ext cx="106992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4" name=""/>
                <p:cNvSpPr txBox="1"/>
                <p:nvPr/>
              </p:nvSpPr>
              <p:spPr>
                <a:xfrm>
                  <a:off x="1289520" y="5056920"/>
                  <a:ext cx="1069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5" name=""/>
              <p:cNvGrpSpPr/>
              <p:nvPr/>
            </p:nvGrpSpPr>
            <p:grpSpPr>
              <a:xfrm>
                <a:off x="1266840" y="4301280"/>
                <a:ext cx="1069920" cy="360"/>
                <a:chOff x="1266840" y="4301280"/>
                <a:chExt cx="1069920" cy="360"/>
              </a:xfrm>
            </p:grpSpPr>
            <p:sp>
              <p:nvSpPr>
                <p:cNvPr id="1176" name="直接连接符 8"/>
                <p:cNvSpPr/>
                <p:nvPr/>
              </p:nvSpPr>
              <p:spPr>
                <a:xfrm>
                  <a:off x="1266840" y="4301280"/>
                  <a:ext cx="106992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"/>
                <p:cNvSpPr txBox="1"/>
                <p:nvPr/>
              </p:nvSpPr>
              <p:spPr>
                <a:xfrm>
                  <a:off x="1266840" y="4301280"/>
                  <a:ext cx="1069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78" name=""/>
              <p:cNvGrpSpPr/>
              <p:nvPr/>
            </p:nvGrpSpPr>
            <p:grpSpPr>
              <a:xfrm>
                <a:off x="1304640" y="5829120"/>
                <a:ext cx="1069920" cy="360"/>
                <a:chOff x="1304640" y="5829120"/>
                <a:chExt cx="1069920" cy="360"/>
              </a:xfrm>
            </p:grpSpPr>
            <p:sp>
              <p:nvSpPr>
                <p:cNvPr id="1179" name="直接连接符 9"/>
                <p:cNvSpPr/>
                <p:nvPr/>
              </p:nvSpPr>
              <p:spPr>
                <a:xfrm>
                  <a:off x="1304640" y="5829120"/>
                  <a:ext cx="106992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0" name=""/>
                <p:cNvSpPr txBox="1"/>
                <p:nvPr/>
              </p:nvSpPr>
              <p:spPr>
                <a:xfrm>
                  <a:off x="1304640" y="5829120"/>
                  <a:ext cx="10699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81" name="组合 58404"/>
          <p:cNvGrpSpPr/>
          <p:nvPr/>
        </p:nvGrpSpPr>
        <p:grpSpPr>
          <a:xfrm>
            <a:off x="4361040" y="3887640"/>
            <a:ext cx="1812240" cy="1941840"/>
            <a:chOff x="4361040" y="3887640"/>
            <a:chExt cx="1812240" cy="1941840"/>
          </a:xfrm>
        </p:grpSpPr>
        <p:sp>
          <p:nvSpPr>
            <p:cNvPr id="1182" name="TextBox 18"/>
            <p:cNvSpPr/>
            <p:nvPr/>
          </p:nvSpPr>
          <p:spPr>
            <a:xfrm>
              <a:off x="4361040" y="3887640"/>
              <a:ext cx="913680" cy="91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        </a:t>
              </a: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1  9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  </a:t>
              </a: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50  9  8  0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        </a:t>
              </a: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5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        </a:t>
              </a: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4  8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        </a:t>
              </a: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4  5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marL="457200" indent="-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            </a:t>
              </a:r>
              <a:r>
                <a:rPr b="0" lang="en-US" sz="2500" spc="-1" strike="noStrike">
                  <a:solidFill>
                    <a:srgbClr val="ff0000"/>
                  </a:solidFill>
                  <a:latin typeface="Arial"/>
                </a:rPr>
                <a:t>3  0 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83" name=""/>
            <p:cNvGrpSpPr/>
            <p:nvPr/>
          </p:nvGrpSpPr>
          <p:grpSpPr>
            <a:xfrm>
              <a:off x="4802040" y="4380840"/>
              <a:ext cx="213840" cy="214560"/>
              <a:chOff x="4802040" y="4380840"/>
              <a:chExt cx="213840" cy="214560"/>
            </a:xfrm>
          </p:grpSpPr>
          <p:sp>
            <p:nvSpPr>
              <p:cNvPr id="1184" name="直接连接符 9"/>
              <p:cNvSpPr/>
              <p:nvPr/>
            </p:nvSpPr>
            <p:spPr>
              <a:xfrm>
                <a:off x="4802040" y="4380840"/>
                <a:ext cx="213840" cy="21456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5" name=""/>
              <p:cNvSpPr txBox="1"/>
              <p:nvPr/>
            </p:nvSpPr>
            <p:spPr>
              <a:xfrm rot="16200000">
                <a:off x="4801680" y="4381200"/>
                <a:ext cx="214560" cy="213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6" name=""/>
            <p:cNvGrpSpPr/>
            <p:nvPr/>
          </p:nvGrpSpPr>
          <p:grpSpPr>
            <a:xfrm>
              <a:off x="5879520" y="4387320"/>
              <a:ext cx="214560" cy="214560"/>
              <a:chOff x="5879520" y="4387320"/>
              <a:chExt cx="214560" cy="214560"/>
            </a:xfrm>
          </p:grpSpPr>
          <p:sp>
            <p:nvSpPr>
              <p:cNvPr id="1187" name="直接连接符 9"/>
              <p:cNvSpPr/>
              <p:nvPr/>
            </p:nvSpPr>
            <p:spPr>
              <a:xfrm>
                <a:off x="5879520" y="4387320"/>
                <a:ext cx="214560" cy="214560"/>
              </a:xfrm>
              <a:prstGeom prst="line">
                <a:avLst/>
              </a:prstGeom>
              <a:ln w="1908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8" name=""/>
              <p:cNvSpPr txBox="1"/>
              <p:nvPr/>
            </p:nvSpPr>
            <p:spPr>
              <a:xfrm rot="16200000">
                <a:off x="5879520" y="4387320"/>
                <a:ext cx="214560" cy="2145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9" name="组合 58408"/>
            <p:cNvGrpSpPr/>
            <p:nvPr/>
          </p:nvGrpSpPr>
          <p:grpSpPr>
            <a:xfrm>
              <a:off x="4640400" y="4248000"/>
              <a:ext cx="1532880" cy="1581480"/>
              <a:chOff x="4640400" y="4248000"/>
              <a:chExt cx="1532880" cy="1581480"/>
            </a:xfrm>
          </p:grpSpPr>
          <p:sp>
            <p:nvSpPr>
              <p:cNvPr id="1190" name="弧形 6"/>
              <p:cNvSpPr/>
              <p:nvPr/>
            </p:nvSpPr>
            <p:spPr>
              <a:xfrm rot="960000">
                <a:off x="4757760" y="4275000"/>
                <a:ext cx="324000" cy="900360"/>
              </a:xfrm>
              <a:custGeom>
                <a:avLst/>
                <a:gdLst/>
                <a:ahLst/>
                <a:rect l="l" t="t" r="r" b="b"/>
                <a:pathLst>
                  <a:path stroke="0" w="325123" h="900885">
                    <a:moveTo>
                      <a:pt x="162561" y="0"/>
                    </a:moveTo>
                    <a:cubicBezTo>
                      <a:pt x="252341" y="0"/>
                      <a:pt x="325122" y="201670"/>
                      <a:pt x="325122" y="450442"/>
                    </a:cubicBezTo>
                    <a:lnTo>
                      <a:pt x="162561" y="450442"/>
                    </a:lnTo>
                    <a:close/>
                  </a:path>
                  <a:path fill="none" w="325123" h="900885">
                    <a:moveTo>
                      <a:pt x="162561" y="0"/>
                    </a:moveTo>
                    <a:cubicBezTo>
                      <a:pt x="252341" y="0"/>
                      <a:pt x="325122" y="201670"/>
                      <a:pt x="325122" y="450442"/>
                    </a:cubicBezTo>
                  </a:path>
                </a:pathLst>
              </a:custGeom>
              <a:noFill/>
              <a:ln w="19080">
                <a:solidFill>
                  <a:srgbClr val="ff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91" name=""/>
              <p:cNvGrpSpPr/>
              <p:nvPr/>
            </p:nvGrpSpPr>
            <p:grpSpPr>
              <a:xfrm>
                <a:off x="5087520" y="5056920"/>
                <a:ext cx="1070640" cy="360"/>
                <a:chOff x="5087520" y="5056920"/>
                <a:chExt cx="1070640" cy="360"/>
              </a:xfrm>
            </p:grpSpPr>
            <p:sp>
              <p:nvSpPr>
                <p:cNvPr id="1192" name="直接连接符 7"/>
                <p:cNvSpPr/>
                <p:nvPr/>
              </p:nvSpPr>
              <p:spPr>
                <a:xfrm>
                  <a:off x="5087520" y="5056920"/>
                  <a:ext cx="107064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3" name=""/>
                <p:cNvSpPr txBox="1"/>
                <p:nvPr/>
              </p:nvSpPr>
              <p:spPr>
                <a:xfrm>
                  <a:off x="5087520" y="5056920"/>
                  <a:ext cx="1070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4" name=""/>
              <p:cNvGrpSpPr/>
              <p:nvPr/>
            </p:nvGrpSpPr>
            <p:grpSpPr>
              <a:xfrm>
                <a:off x="5064480" y="4301280"/>
                <a:ext cx="1070640" cy="360"/>
                <a:chOff x="5064480" y="4301280"/>
                <a:chExt cx="1070640" cy="360"/>
              </a:xfrm>
            </p:grpSpPr>
            <p:sp>
              <p:nvSpPr>
                <p:cNvPr id="1195" name="直接连接符 8"/>
                <p:cNvSpPr/>
                <p:nvPr/>
              </p:nvSpPr>
              <p:spPr>
                <a:xfrm>
                  <a:off x="5064480" y="4301280"/>
                  <a:ext cx="107064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"/>
                <p:cNvSpPr txBox="1"/>
                <p:nvPr/>
              </p:nvSpPr>
              <p:spPr>
                <a:xfrm>
                  <a:off x="5064480" y="4301280"/>
                  <a:ext cx="1070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97" name=""/>
              <p:cNvGrpSpPr/>
              <p:nvPr/>
            </p:nvGrpSpPr>
            <p:grpSpPr>
              <a:xfrm>
                <a:off x="5102640" y="5829120"/>
                <a:ext cx="1070640" cy="360"/>
                <a:chOff x="5102640" y="5829120"/>
                <a:chExt cx="1070640" cy="360"/>
              </a:xfrm>
            </p:grpSpPr>
            <p:sp>
              <p:nvSpPr>
                <p:cNvPr id="1198" name="直接连接符 9"/>
                <p:cNvSpPr/>
                <p:nvPr/>
              </p:nvSpPr>
              <p:spPr>
                <a:xfrm>
                  <a:off x="5102640" y="5829120"/>
                  <a:ext cx="1070640" cy="0"/>
                </a:xfrm>
                <a:prstGeom prst="line">
                  <a:avLst/>
                </a:prstGeom>
                <a:ln w="19080">
                  <a:solidFill>
                    <a:srgbClr val="ff0000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"/>
                <p:cNvSpPr txBox="1"/>
                <p:nvPr/>
              </p:nvSpPr>
              <p:spPr>
                <a:xfrm>
                  <a:off x="5102640" y="5829120"/>
                  <a:ext cx="10706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00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201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02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203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04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5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06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7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8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9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10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11" name="Rectangle 64"/>
          <p:cNvSpPr/>
          <p:nvPr/>
        </p:nvSpPr>
        <p:spPr>
          <a:xfrm>
            <a:off x="530280" y="220680"/>
            <a:ext cx="23400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宋体"/>
              </a:rPr>
              <a:t>三、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日期占位符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E39AA-86B0-41CF-A94A-D99BB3955D9A}" type="datetime">
              <a:rPr b="0" lang="zh-CN" sz="1200" spc="-1" strike="noStrike">
                <a:solidFill>
                  <a:srgbClr val="898989"/>
                </a:solidFill>
                <a:latin typeface="Cambria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TextBox 5"/>
          <p:cNvSpPr/>
          <p:nvPr/>
        </p:nvSpPr>
        <p:spPr>
          <a:xfrm>
            <a:off x="571680" y="100008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在（     ）里填上适当的数，使计算简便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80  ÷  45= 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           450  ÷  18=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20  ÷  15=  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                210 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÷  42=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4" name="直接箭头连接符 9"/>
          <p:cNvCxnSpPr/>
          <p:nvPr/>
        </p:nvCxnSpPr>
        <p:spPr>
          <a:xfrm flipH="1">
            <a:off x="2285640" y="1890360"/>
            <a:ext cx="2160" cy="500760"/>
          </a:xfrm>
          <a:prstGeom prst="straightConnector1">
            <a:avLst/>
          </a:prstGeom>
          <a:ln w="255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215" name="TextBox 10"/>
          <p:cNvSpPr/>
          <p:nvPr/>
        </p:nvSpPr>
        <p:spPr>
          <a:xfrm>
            <a:off x="2214720" y="1819440"/>
            <a:ext cx="714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×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6" name="直接箭头连接符 14"/>
          <p:cNvCxnSpPr/>
          <p:nvPr/>
        </p:nvCxnSpPr>
        <p:spPr>
          <a:xfrm flipH="1">
            <a:off x="1141200" y="1890360"/>
            <a:ext cx="2160" cy="500760"/>
          </a:xfrm>
          <a:prstGeom prst="straightConnector1">
            <a:avLst/>
          </a:prstGeom>
          <a:ln w="255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217" name="TextBox 15"/>
          <p:cNvSpPr/>
          <p:nvPr/>
        </p:nvSpPr>
        <p:spPr>
          <a:xfrm>
            <a:off x="1049400" y="1819440"/>
            <a:ext cx="714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×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TextBox 16"/>
          <p:cNvSpPr/>
          <p:nvPr/>
        </p:nvSpPr>
        <p:spPr>
          <a:xfrm>
            <a:off x="1143000" y="1819440"/>
            <a:ext cx="714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   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9" name=""/>
          <p:cNvGrpSpPr/>
          <p:nvPr/>
        </p:nvGrpSpPr>
        <p:grpSpPr>
          <a:xfrm>
            <a:off x="785880" y="2855880"/>
            <a:ext cx="785880" cy="1800"/>
            <a:chOff x="785880" y="2855880"/>
            <a:chExt cx="785880" cy="1800"/>
          </a:xfrm>
        </p:grpSpPr>
        <p:sp>
          <p:nvSpPr>
            <p:cNvPr id="1220" name="直接连接符 18"/>
            <p:cNvSpPr/>
            <p:nvPr/>
          </p:nvSpPr>
          <p:spPr>
            <a:xfrm>
              <a:off x="785880" y="2855880"/>
              <a:ext cx="785880" cy="180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 txBox="1"/>
            <p:nvPr/>
          </p:nvSpPr>
          <p:spPr>
            <a:xfrm>
              <a:off x="785880" y="2855880"/>
              <a:ext cx="78588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2" name="TextBox 19"/>
          <p:cNvSpPr/>
          <p:nvPr/>
        </p:nvSpPr>
        <p:spPr>
          <a:xfrm>
            <a:off x="1612800" y="2390760"/>
            <a:ext cx="914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÷  9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3" name="直接箭头连接符 27"/>
          <p:cNvCxnSpPr/>
          <p:nvPr/>
        </p:nvCxnSpPr>
        <p:spPr>
          <a:xfrm flipH="1">
            <a:off x="5714640" y="1890360"/>
            <a:ext cx="2160" cy="500760"/>
          </a:xfrm>
          <a:prstGeom prst="straightConnector1">
            <a:avLst/>
          </a:prstGeom>
          <a:ln w="255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224" name="TextBox 28"/>
          <p:cNvSpPr/>
          <p:nvPr/>
        </p:nvSpPr>
        <p:spPr>
          <a:xfrm>
            <a:off x="5643720" y="1819440"/>
            <a:ext cx="714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÷9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5" name="直接箭头连接符 29"/>
          <p:cNvCxnSpPr/>
          <p:nvPr/>
        </p:nvCxnSpPr>
        <p:spPr>
          <a:xfrm flipH="1">
            <a:off x="4570200" y="1890360"/>
            <a:ext cx="2160" cy="500760"/>
          </a:xfrm>
          <a:prstGeom prst="straightConnector1">
            <a:avLst/>
          </a:prstGeom>
          <a:ln w="255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226" name="TextBox 30"/>
          <p:cNvSpPr/>
          <p:nvPr/>
        </p:nvSpPr>
        <p:spPr>
          <a:xfrm>
            <a:off x="4451400" y="1819440"/>
            <a:ext cx="4284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TextBox 31"/>
          <p:cNvSpPr/>
          <p:nvPr/>
        </p:nvSpPr>
        <p:spPr>
          <a:xfrm>
            <a:off x="4572000" y="1819440"/>
            <a:ext cx="714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   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8" name=""/>
          <p:cNvGrpSpPr/>
          <p:nvPr/>
        </p:nvGrpSpPr>
        <p:grpSpPr>
          <a:xfrm>
            <a:off x="4214880" y="2855880"/>
            <a:ext cx="785880" cy="1800"/>
            <a:chOff x="4214880" y="2855880"/>
            <a:chExt cx="785880" cy="1800"/>
          </a:xfrm>
        </p:grpSpPr>
        <p:sp>
          <p:nvSpPr>
            <p:cNvPr id="1229" name="直接连接符 32"/>
            <p:cNvSpPr/>
            <p:nvPr/>
          </p:nvSpPr>
          <p:spPr>
            <a:xfrm>
              <a:off x="4214880" y="2855880"/>
              <a:ext cx="785880" cy="180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 txBox="1"/>
            <p:nvPr/>
          </p:nvSpPr>
          <p:spPr>
            <a:xfrm>
              <a:off x="4214880" y="2855880"/>
              <a:ext cx="785880" cy="1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1" name="TextBox 33"/>
          <p:cNvSpPr/>
          <p:nvPr/>
        </p:nvSpPr>
        <p:spPr>
          <a:xfrm>
            <a:off x="5041800" y="2390760"/>
            <a:ext cx="914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÷  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2" name="直接箭头连接符 34"/>
          <p:cNvCxnSpPr/>
          <p:nvPr/>
        </p:nvCxnSpPr>
        <p:spPr>
          <a:xfrm flipH="1">
            <a:off x="2285640" y="4214520"/>
            <a:ext cx="2160" cy="500760"/>
          </a:xfrm>
          <a:prstGeom prst="straightConnector1">
            <a:avLst/>
          </a:prstGeom>
          <a:ln w="255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233" name="TextBox 35"/>
          <p:cNvSpPr/>
          <p:nvPr/>
        </p:nvSpPr>
        <p:spPr>
          <a:xfrm>
            <a:off x="2214720" y="4143240"/>
            <a:ext cx="500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×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4" name="直接箭头连接符 36"/>
          <p:cNvCxnSpPr/>
          <p:nvPr/>
        </p:nvCxnSpPr>
        <p:spPr>
          <a:xfrm flipH="1">
            <a:off x="1141200" y="4214520"/>
            <a:ext cx="2160" cy="500760"/>
          </a:xfrm>
          <a:prstGeom prst="straightConnector1">
            <a:avLst/>
          </a:prstGeom>
          <a:ln w="255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235" name="TextBox 37"/>
          <p:cNvSpPr/>
          <p:nvPr/>
        </p:nvSpPr>
        <p:spPr>
          <a:xfrm>
            <a:off x="1049400" y="4143240"/>
            <a:ext cx="714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×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TextBox 38"/>
          <p:cNvSpPr/>
          <p:nvPr/>
        </p:nvSpPr>
        <p:spPr>
          <a:xfrm>
            <a:off x="1143000" y="4143240"/>
            <a:ext cx="714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   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7" name=""/>
          <p:cNvGrpSpPr/>
          <p:nvPr/>
        </p:nvGrpSpPr>
        <p:grpSpPr>
          <a:xfrm>
            <a:off x="857160" y="5143680"/>
            <a:ext cx="785880" cy="360"/>
            <a:chOff x="857160" y="5143680"/>
            <a:chExt cx="785880" cy="360"/>
          </a:xfrm>
        </p:grpSpPr>
        <p:sp>
          <p:nvSpPr>
            <p:cNvPr id="1238" name="直接连接符 39"/>
            <p:cNvSpPr/>
            <p:nvPr/>
          </p:nvSpPr>
          <p:spPr>
            <a:xfrm>
              <a:off x="857160" y="5143680"/>
              <a:ext cx="78588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"/>
            <p:cNvSpPr txBox="1"/>
            <p:nvPr/>
          </p:nvSpPr>
          <p:spPr>
            <a:xfrm>
              <a:off x="857160" y="5143680"/>
              <a:ext cx="78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0" name="TextBox 40"/>
          <p:cNvSpPr/>
          <p:nvPr/>
        </p:nvSpPr>
        <p:spPr>
          <a:xfrm>
            <a:off x="1612800" y="4714920"/>
            <a:ext cx="914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1" name="直接箭头连接符 41"/>
          <p:cNvCxnSpPr/>
          <p:nvPr/>
        </p:nvCxnSpPr>
        <p:spPr>
          <a:xfrm flipH="1">
            <a:off x="5714640" y="4214520"/>
            <a:ext cx="2160" cy="500760"/>
          </a:xfrm>
          <a:prstGeom prst="straightConnector1">
            <a:avLst/>
          </a:prstGeom>
          <a:ln w="255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242" name="TextBox 42"/>
          <p:cNvSpPr/>
          <p:nvPr/>
        </p:nvSpPr>
        <p:spPr>
          <a:xfrm>
            <a:off x="5643720" y="4143240"/>
            <a:ext cx="500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3" name="直接箭头连接符 43"/>
          <p:cNvCxnSpPr/>
          <p:nvPr/>
        </p:nvCxnSpPr>
        <p:spPr>
          <a:xfrm flipH="1">
            <a:off x="4570200" y="4214520"/>
            <a:ext cx="2160" cy="500760"/>
          </a:xfrm>
          <a:prstGeom prst="straightConnector1">
            <a:avLst/>
          </a:prstGeom>
          <a:ln w="25560">
            <a:solidFill>
              <a:srgbClr val="000000"/>
            </a:solidFill>
            <a:round/>
            <a:tailEnd len="med" type="arrow" w="med"/>
          </a:ln>
        </p:spPr>
      </p:cxnSp>
      <p:sp>
        <p:nvSpPr>
          <p:cNvPr id="1244" name="TextBox 44"/>
          <p:cNvSpPr/>
          <p:nvPr/>
        </p:nvSpPr>
        <p:spPr>
          <a:xfrm>
            <a:off x="4451400" y="4143240"/>
            <a:ext cx="428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TextBox 45"/>
          <p:cNvSpPr/>
          <p:nvPr/>
        </p:nvSpPr>
        <p:spPr>
          <a:xfrm>
            <a:off x="4572000" y="4143240"/>
            <a:ext cx="714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   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6" name=""/>
          <p:cNvGrpSpPr/>
          <p:nvPr/>
        </p:nvGrpSpPr>
        <p:grpSpPr>
          <a:xfrm>
            <a:off x="4214880" y="5143680"/>
            <a:ext cx="785880" cy="360"/>
            <a:chOff x="4214880" y="5143680"/>
            <a:chExt cx="785880" cy="360"/>
          </a:xfrm>
        </p:grpSpPr>
        <p:sp>
          <p:nvSpPr>
            <p:cNvPr id="1247" name="直接连接符 46"/>
            <p:cNvSpPr/>
            <p:nvPr/>
          </p:nvSpPr>
          <p:spPr>
            <a:xfrm>
              <a:off x="4214880" y="5143680"/>
              <a:ext cx="78588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"/>
            <p:cNvSpPr txBox="1"/>
            <p:nvPr/>
          </p:nvSpPr>
          <p:spPr>
            <a:xfrm>
              <a:off x="4214880" y="5143680"/>
              <a:ext cx="78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9" name="TextBox 47"/>
          <p:cNvSpPr/>
          <p:nvPr/>
        </p:nvSpPr>
        <p:spPr>
          <a:xfrm>
            <a:off x="5041800" y="4714920"/>
            <a:ext cx="530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0" name=""/>
          <p:cNvGrpSpPr/>
          <p:nvPr/>
        </p:nvGrpSpPr>
        <p:grpSpPr>
          <a:xfrm>
            <a:off x="2000160" y="5143680"/>
            <a:ext cx="785880" cy="360"/>
            <a:chOff x="2000160" y="5143680"/>
            <a:chExt cx="785880" cy="360"/>
          </a:xfrm>
        </p:grpSpPr>
        <p:sp>
          <p:nvSpPr>
            <p:cNvPr id="1251" name="直接连接符 48"/>
            <p:cNvSpPr/>
            <p:nvPr/>
          </p:nvSpPr>
          <p:spPr>
            <a:xfrm>
              <a:off x="2000160" y="5143680"/>
              <a:ext cx="78588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 txBox="1"/>
            <p:nvPr/>
          </p:nvSpPr>
          <p:spPr>
            <a:xfrm>
              <a:off x="2000160" y="5143680"/>
              <a:ext cx="78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"/>
          <p:cNvGrpSpPr/>
          <p:nvPr/>
        </p:nvGrpSpPr>
        <p:grpSpPr>
          <a:xfrm>
            <a:off x="5429160" y="5143680"/>
            <a:ext cx="785880" cy="360"/>
            <a:chOff x="5429160" y="5143680"/>
            <a:chExt cx="785880" cy="360"/>
          </a:xfrm>
        </p:grpSpPr>
        <p:sp>
          <p:nvSpPr>
            <p:cNvPr id="1254" name="直接连接符 49"/>
            <p:cNvSpPr/>
            <p:nvPr/>
          </p:nvSpPr>
          <p:spPr>
            <a:xfrm>
              <a:off x="5429160" y="5143680"/>
              <a:ext cx="78588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 txBox="1"/>
            <p:nvPr/>
          </p:nvSpPr>
          <p:spPr>
            <a:xfrm>
              <a:off x="5429160" y="5143680"/>
              <a:ext cx="7858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6" name="TextBox 50"/>
          <p:cNvSpPr/>
          <p:nvPr/>
        </p:nvSpPr>
        <p:spPr>
          <a:xfrm>
            <a:off x="5786280" y="4143240"/>
            <a:ext cx="7146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   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TextBox 51"/>
          <p:cNvSpPr/>
          <p:nvPr/>
        </p:nvSpPr>
        <p:spPr>
          <a:xfrm>
            <a:off x="2346480" y="4132440"/>
            <a:ext cx="7142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（   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TextBox 28"/>
          <p:cNvSpPr/>
          <p:nvPr/>
        </p:nvSpPr>
        <p:spPr>
          <a:xfrm>
            <a:off x="1596960" y="1808280"/>
            <a:ext cx="3571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en-US" sz="2500" spc="-1" strike="noStrike">
                <a:solidFill>
                  <a:srgbClr val="c00000"/>
                </a:solidFill>
                <a:latin typeface="Arial"/>
              </a:rPr>
              <a:t>     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TextBox 28"/>
          <p:cNvSpPr/>
          <p:nvPr/>
        </p:nvSpPr>
        <p:spPr>
          <a:xfrm>
            <a:off x="785880" y="2428920"/>
            <a:ext cx="357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360 </a:t>
            </a:r>
            <a:r>
              <a:rPr b="0" lang="en-US" sz="2500" spc="-1" strike="noStrike">
                <a:solidFill>
                  <a:srgbClr val="c00000"/>
                </a:solidFill>
                <a:latin typeface="Arial"/>
              </a:rPr>
              <a:t>    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TextBox 28"/>
          <p:cNvSpPr/>
          <p:nvPr/>
        </p:nvSpPr>
        <p:spPr>
          <a:xfrm>
            <a:off x="2625840" y="1515960"/>
            <a:ext cx="357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4 </a:t>
            </a:r>
            <a:r>
              <a:rPr b="0" lang="en-US" sz="2500" spc="-1" strike="noStrike">
                <a:solidFill>
                  <a:srgbClr val="c00000"/>
                </a:solidFill>
                <a:latin typeface="Arial"/>
              </a:rPr>
              <a:t>    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TextBox 28"/>
          <p:cNvSpPr/>
          <p:nvPr/>
        </p:nvSpPr>
        <p:spPr>
          <a:xfrm>
            <a:off x="5072040" y="1857240"/>
            <a:ext cx="357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9</a:t>
            </a:r>
            <a:r>
              <a:rPr b="0" lang="en-US" sz="2500" spc="-1" strike="noStrike">
                <a:solidFill>
                  <a:srgbClr val="c00000"/>
                </a:solidFill>
                <a:latin typeface="Arial"/>
              </a:rPr>
              <a:t>     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TextBox 28"/>
          <p:cNvSpPr/>
          <p:nvPr/>
        </p:nvSpPr>
        <p:spPr>
          <a:xfrm>
            <a:off x="4286160" y="2428920"/>
            <a:ext cx="357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50</a:t>
            </a:r>
            <a:r>
              <a:rPr b="0" lang="en-US" sz="2500" spc="-1" strike="noStrike">
                <a:solidFill>
                  <a:srgbClr val="c00000"/>
                </a:solidFill>
                <a:latin typeface="Arial"/>
              </a:rPr>
              <a:t>     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TextBox 28"/>
          <p:cNvSpPr/>
          <p:nvPr/>
        </p:nvSpPr>
        <p:spPr>
          <a:xfrm>
            <a:off x="5977080" y="1500120"/>
            <a:ext cx="357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25</a:t>
            </a:r>
            <a:r>
              <a:rPr b="0" lang="en-US" sz="2500" spc="-1" strike="noStrike">
                <a:solidFill>
                  <a:srgbClr val="c00000"/>
                </a:solidFill>
                <a:latin typeface="Arial"/>
              </a:rPr>
              <a:t>     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TextBox 28"/>
          <p:cNvSpPr/>
          <p:nvPr/>
        </p:nvSpPr>
        <p:spPr>
          <a:xfrm>
            <a:off x="1643040" y="4143240"/>
            <a:ext cx="357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2 </a:t>
            </a:r>
            <a:r>
              <a:rPr b="0" lang="en-US" sz="2500" spc="-1" strike="noStrike">
                <a:solidFill>
                  <a:srgbClr val="c00000"/>
                </a:solidFill>
                <a:latin typeface="Arial"/>
              </a:rPr>
              <a:t>    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TextBox 28"/>
          <p:cNvSpPr/>
          <p:nvPr/>
        </p:nvSpPr>
        <p:spPr>
          <a:xfrm>
            <a:off x="938160" y="4714920"/>
            <a:ext cx="357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240</a:t>
            </a:r>
            <a:r>
              <a:rPr b="0" lang="en-US" sz="2500" spc="-1" strike="noStrike">
                <a:solidFill>
                  <a:srgbClr val="c00000"/>
                </a:solidFill>
                <a:latin typeface="Arial"/>
              </a:rPr>
              <a:t>     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TextBox 28"/>
          <p:cNvSpPr/>
          <p:nvPr/>
        </p:nvSpPr>
        <p:spPr>
          <a:xfrm>
            <a:off x="2593800" y="3808440"/>
            <a:ext cx="357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0" lang="en-US" sz="2500" spc="-1" strike="noStrike">
                <a:solidFill>
                  <a:srgbClr val="c00000"/>
                </a:solidFill>
                <a:latin typeface="Arial"/>
              </a:rPr>
              <a:t>     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TextBox 28"/>
          <p:cNvSpPr/>
          <p:nvPr/>
        </p:nvSpPr>
        <p:spPr>
          <a:xfrm>
            <a:off x="2786040" y="4143240"/>
            <a:ext cx="357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2 </a:t>
            </a:r>
            <a:r>
              <a:rPr b="0" lang="en-US" sz="2500" spc="-1" strike="noStrike">
                <a:solidFill>
                  <a:srgbClr val="c00000"/>
                </a:solidFill>
                <a:latin typeface="Arial"/>
              </a:rPr>
              <a:t>    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TextBox 28"/>
          <p:cNvSpPr/>
          <p:nvPr/>
        </p:nvSpPr>
        <p:spPr>
          <a:xfrm>
            <a:off x="2071800" y="4714920"/>
            <a:ext cx="357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30</a:t>
            </a:r>
            <a:r>
              <a:rPr b="0" lang="en-US" sz="2500" spc="-1" strike="noStrike">
                <a:solidFill>
                  <a:srgbClr val="c00000"/>
                </a:solidFill>
                <a:latin typeface="Arial"/>
              </a:rPr>
              <a:t>     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TextBox 28"/>
          <p:cNvSpPr/>
          <p:nvPr/>
        </p:nvSpPr>
        <p:spPr>
          <a:xfrm>
            <a:off x="5062680" y="4143240"/>
            <a:ext cx="357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0" lang="en-US" sz="2500" spc="-1" strike="noStrike">
                <a:solidFill>
                  <a:srgbClr val="c00000"/>
                </a:solidFill>
                <a:latin typeface="Arial"/>
              </a:rPr>
              <a:t>     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TextBox 28"/>
          <p:cNvSpPr/>
          <p:nvPr/>
        </p:nvSpPr>
        <p:spPr>
          <a:xfrm>
            <a:off x="4357800" y="4714920"/>
            <a:ext cx="357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30</a:t>
            </a:r>
            <a:r>
              <a:rPr b="0" lang="en-US" sz="2500" spc="-1" strike="noStrike">
                <a:solidFill>
                  <a:srgbClr val="c00000"/>
                </a:solidFill>
                <a:latin typeface="Arial"/>
              </a:rPr>
              <a:t>         </a:t>
            </a: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0" lang="en-US" sz="2500" spc="-1" strike="noStrike">
                <a:solidFill>
                  <a:srgbClr val="c00000"/>
                </a:solidFill>
                <a:latin typeface="Arial"/>
              </a:rPr>
              <a:t>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TextBox 28"/>
          <p:cNvSpPr/>
          <p:nvPr/>
        </p:nvSpPr>
        <p:spPr>
          <a:xfrm>
            <a:off x="5832360" y="3811680"/>
            <a:ext cx="35748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0" lang="en-US" sz="2500" spc="-1" strike="noStrike">
                <a:solidFill>
                  <a:srgbClr val="c00000"/>
                </a:solidFill>
                <a:latin typeface="Arial"/>
              </a:rPr>
              <a:t>     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TextBox 28"/>
          <p:cNvSpPr/>
          <p:nvPr/>
        </p:nvSpPr>
        <p:spPr>
          <a:xfrm>
            <a:off x="6205680" y="4143240"/>
            <a:ext cx="357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7</a:t>
            </a:r>
            <a:r>
              <a:rPr b="0" lang="en-US" sz="2500" spc="-1" strike="noStrike">
                <a:solidFill>
                  <a:srgbClr val="c00000"/>
                </a:solidFill>
                <a:latin typeface="Arial"/>
              </a:rPr>
              <a:t>     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TextBox 28"/>
          <p:cNvSpPr/>
          <p:nvPr/>
        </p:nvSpPr>
        <p:spPr>
          <a:xfrm>
            <a:off x="5491080" y="4714920"/>
            <a:ext cx="3571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6</a:t>
            </a:r>
            <a:r>
              <a:rPr b="0" lang="en-US" sz="2500" spc="-1" strike="noStrike">
                <a:solidFill>
                  <a:srgbClr val="c00000"/>
                </a:solidFill>
                <a:latin typeface="Arial"/>
              </a:rPr>
              <a:t>               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4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275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76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277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78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9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80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1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2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3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4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85" name="Rectangle 64"/>
          <p:cNvSpPr/>
          <p:nvPr/>
        </p:nvSpPr>
        <p:spPr>
          <a:xfrm>
            <a:off x="365040" y="76320"/>
            <a:ext cx="294660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四、课堂小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TextBox 32"/>
          <p:cNvSpPr/>
          <p:nvPr/>
        </p:nvSpPr>
        <p:spPr>
          <a:xfrm>
            <a:off x="206280" y="673200"/>
            <a:ext cx="844884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cc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根据商的不变的规律，计算被除数和除数末尾都有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的除法会更简便，可以把被除数和除数末尾都去掉相同个数的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，商不变，但余数发生变化，去掉几个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，余数的末尾就添上几个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      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在计算除法时，有时利用商不变的性质会使计算更简便。当除数是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5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时，被除数和除数同时乘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；当除数是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25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时，被除数和除数同时乘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8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，这时除数就变成了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0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或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000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宋体"/>
              </a:rPr>
              <a:t>，计算就简便多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7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288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89" name="组合 4"/>
            <p:cNvGrpSpPr/>
            <p:nvPr/>
          </p:nvGrpSpPr>
          <p:grpSpPr>
            <a:xfrm>
              <a:off x="0" y="196560"/>
              <a:ext cx="429840" cy="273600"/>
              <a:chOff x="0" y="196560"/>
              <a:chExt cx="429840" cy="273600"/>
            </a:xfrm>
          </p:grpSpPr>
          <p:sp>
            <p:nvSpPr>
              <p:cNvPr id="1290" name="椭圆 11"/>
              <p:cNvSpPr/>
              <p:nvPr/>
            </p:nvSpPr>
            <p:spPr>
              <a:xfrm rot="16200000">
                <a:off x="242640" y="36072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91" name="椭圆 13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2" name="椭圆 29"/>
              <p:cNvSpPr/>
              <p:nvPr/>
            </p:nvSpPr>
            <p:spPr>
              <a:xfrm rot="16200000">
                <a:off x="242640" y="2340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93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096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4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4020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5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6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4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7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656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98" name="Rectangle 64"/>
          <p:cNvSpPr/>
          <p:nvPr/>
        </p:nvSpPr>
        <p:spPr>
          <a:xfrm>
            <a:off x="438120" y="130320"/>
            <a:ext cx="2648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五、拓展训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文本框 1"/>
          <p:cNvSpPr/>
          <p:nvPr/>
        </p:nvSpPr>
        <p:spPr>
          <a:xfrm>
            <a:off x="349200" y="766800"/>
            <a:ext cx="8758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填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1. 1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的（    ）倍是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46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714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是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42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的（     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2. 370÷38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试商时，把除数看作（      ）试商，商的最高位是（     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    ）里最大能填几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60×(    ) &lt; 200    90×(    ) &lt; 640     80×(    ) &lt; 500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文本框 3"/>
          <p:cNvSpPr/>
          <p:nvPr/>
        </p:nvSpPr>
        <p:spPr>
          <a:xfrm>
            <a:off x="1601640" y="1347840"/>
            <a:ext cx="55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2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文本框 2"/>
          <p:cNvSpPr/>
          <p:nvPr/>
        </p:nvSpPr>
        <p:spPr>
          <a:xfrm>
            <a:off x="4973760" y="13622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17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文本框 4"/>
          <p:cNvSpPr/>
          <p:nvPr/>
        </p:nvSpPr>
        <p:spPr>
          <a:xfrm>
            <a:off x="4408560" y="1798560"/>
            <a:ext cx="62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文本框 6"/>
          <p:cNvSpPr/>
          <p:nvPr/>
        </p:nvSpPr>
        <p:spPr>
          <a:xfrm>
            <a:off x="7940520" y="1809720"/>
            <a:ext cx="38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文本框 7"/>
          <p:cNvSpPr/>
          <p:nvPr/>
        </p:nvSpPr>
        <p:spPr>
          <a:xfrm>
            <a:off x="1536840" y="2714760"/>
            <a:ext cx="38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文本框 8"/>
          <p:cNvSpPr/>
          <p:nvPr/>
        </p:nvSpPr>
        <p:spPr>
          <a:xfrm>
            <a:off x="4089240" y="2725560"/>
            <a:ext cx="38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文本框 9"/>
          <p:cNvSpPr/>
          <p:nvPr/>
        </p:nvSpPr>
        <p:spPr>
          <a:xfrm>
            <a:off x="6743880" y="2735280"/>
            <a:ext cx="38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12T01:07:42Z</dcterms:created>
  <dc:creator/>
  <dc:description/>
  <dc:language>en-US</dc:language>
  <cp:lastModifiedBy>万润仪器贸易公司</cp:lastModifiedBy>
  <dcterms:modified xsi:type="dcterms:W3CDTF">2020-08-21T08:59:18Z</dcterms:modified>
  <cp:revision>22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